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E4D5-D1EF-4759-8366-C16DEB0AB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B424-DD60-4A64-A1F1-7F166EE64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D23E-C09C-4A56-AFE8-EBEDF3DEC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D1C-E731-4A0C-BA45-6E5E71305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itial set of functional dependencies in the AD CAMPAIGN MIX is discussed in detail on Pages 98-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12C-6EDC-4656-92C2-E2348F27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D02-FEEE-4F6F-A136-DA82306CF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7BA6-308D-4274-8A81-8B2A72063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2C5-BC05-46D3-B0AA-087470FE8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5EE-52ED-4931-A588-CE8E2185F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DDA-4B56-4BB1-8ECC-311429596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D4C-6DF0-41FD-BF0B-9FF56B149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6027-687A-4662-9998-192E6197B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EF8-6C9E-41F4-8F3C-8F161BB9A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5A4-5286-48D1-B075-492C8CAFE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2159-E746-43D2-A4C7-366EE170F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0A0-8915-448A-9502-C2AF52397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99-1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F28-9E8F-42A3-A69D-CB1745ED1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2EAD-47C3-4305-8242-BB587A3A5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537F-F59C-4171-A26F-0F88A4724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666A-A6DC-4E77-8D68-2391504B7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39B-A28E-4D63-8857-3A9DA6975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744-EC8D-4C81-B622-8DCACE05F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891-8F58-4B8B-9958-AE6E4614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89C5-AFC7-41B0-8C54-A2ACE24B3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3FB5-798B-416B-94A2-56FEC07D0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1-1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DFC-39BD-4F10-9858-3CB5BB405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2-1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990-BF0A-40DD-9C81-C0B78A698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2-1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499C-EAFA-4F6E-BE61-39DF0C086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D68-8063-43A8-830A-1C1F16AE6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204-E50C-417F-BA43-66ACFBBEA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F97-ACB4-4C7C-8033-3144392A4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604-701F-4C95-959C-92C2EEDA3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izing to 1NF is not a part of the normalization process of relational data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izing to 1NF is done only when a non-relational table is being converted to a re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F1C-D8C2-4B99-8ACA-F5EDA16D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9E77-B1D2-416A-B646-BC4155328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5-1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D1F7-86CB-426F-A4B3-E974020AA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10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F313-37BF-49E2-8864-C14B40DBD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6-1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0818-5F63-4AAF-BB6D-6F08B3C52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elational table, the process of normalization starts by examining if a relational table is in 2N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EB3B-EE11-4CE3-9446-FF8E15923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4FC2-D5A9-4E7E-81A7-BB8CE07CA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7-1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F5AB-84D2-4B98-A523-AB40CE838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elational table that is in 2NF, the process of normalization continues by examining if a relational table is in 3N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4A43-844C-4E6C-93B5-48723EE00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069-453B-464E-AF5A-7A4675DA1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8-1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035-8F98-4DE3-944E-AD0205CCC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8-1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716E-E4B5-4C38-A174-90EB717A4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1F71-3D0A-4639-8A6E-8AD29F3E3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202-587E-4789-96F2-467BCC9AB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A42C-D64C-48BD-B243-34C86446A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09-1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B0C-F316-4229-9200-0BA911C9A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A8B-389C-4D58-BA22-DA88A0D75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F214-0353-4320-BF01-5EDE2C5E0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5862-CA48-46B7-BBE9-40FEAC058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112-1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9806-9AC8-48C7-8360-9C83D725A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0D2-48F7-4F2A-B8DA-EF5B54469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398-BD67-4C99-A3EE-929877E9B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508E-687A-409C-8A49-731BA4E4F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93-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BC03-2C1F-4BA5-9423-19EB67B7A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9866-EEA9-4CAF-A4C6-D3F59F532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35B5-F8A2-4CF8-A9C9-186CEE978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4A0A-B4E3-424A-A52A-294DFF503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615A7-EA3D-4BD5-8E74-0130B589E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AB3E-DD14-490C-8420-BEBBD91D4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5D5D-6B65-4E7A-AB0F-18D2C9153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7750-72FC-43D3-826B-315EB02DF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43E1-C442-42C4-9249-FD3D336B7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BD34-6B9B-4605-8774-71A82D243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34ED-4D21-49CB-9A28-02BFA8BF1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7250-3902-4D17-B330-387A7CDA2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D530-1621-4713-9B69-8F47EC069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D55D15C2-6B92-4500-BE7A-D2CF316057B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Straight Connector 14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1" name="Straight Connector 14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25360" y="4853160"/>
            <a:ext cx="8613720" cy="1603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Database Systems -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Introduction to Databases and Data Warehou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f update anomalies in the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6360" y="1600200"/>
            <a:ext cx="9052200" cy="500688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FE7FD1E-E6BB-4313-86D9-B382140252D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unctional dependenc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curs when the value of one (or more) column(s) in each record of a relation uniquely  determines the value of another column in that same record of the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lientID → Client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65255E7-34BA-4C27-8A01-3DED0947E13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wo functional dependency notation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lientID → Client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DC8F67F-9C41-4043-B6AC-F43C26CAD91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938240" y="3886200"/>
            <a:ext cx="5315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6B103D0-C7A0-43B2-84C3-B6171CAD3D8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868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t all functional dependencies need to be depic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ollowing types of functional dependencies can be omitted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Trivial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Augmented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Equivalent functional dependenci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3154541B-F8E4-4292-AF4F-4B132DF9DC3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ivial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n attribute (or a set of attributes) functionally determines itself or its subset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B → A, B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B → 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ampaignMgrID, CampaignMgrName → CampaignMgrName</a:t>
            </a: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rivial functional dependencies are not  depic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65FBD8B-193D-424B-8EB5-B6220A4B4AE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ugmented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functional dependency that contains an existing functional dependenc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 if a functional dependency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ists in a relation, then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, C → B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s an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augmented functional dependenc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Does not add new information to what is already described by the existing functional dependency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t can be omit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F75DA09-A3B6-49DB-98C9-9BFE92CF9A7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unctional dependencies (Set 3)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 CampaignMgrID, CampaignMgrNam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Augmented functional dependencies (in Set 5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ue to Set 3: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  CampaignMgrID, CampaignMgr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an be omitte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F21AE2D-1941-46E1-8B28-B61C0C1B7A5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unctional dependencies (Set 2)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ModeID → Media, Rang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Augmented functional dependencies (in Set 5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ue to Set 2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 → Media, Ran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an be omitted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B96757B-7FD2-49AA-B132-A63885E5F31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quivalent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two columns (or sets of columns) that functionally determine each other determine other colum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one of the equivalent functional dependencies is depicted, the other equivalent functional dependency can be omitt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xample if functional dependencies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ists in a relation, then 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, and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 → B, X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B → A, X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, and: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Y,A → B, X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Y,B → A, X</a:t>
            </a: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equivalent functional dependenc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FB5BE1C-96F6-4E67-A23A-248B501FAEC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nsert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entering new data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Delete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removing data from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odify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d for changing the existing data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2FCADE73-A360-4DE5-BF31-06105BDC0AD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ts val="1998"/>
              </a:lnSpc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Because the functional dependenc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→ AdCampaignNam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d</a:t>
            </a:r>
            <a:r>
              <a:rPr b="0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unctional dependency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AdCampaignName → AdCampaignID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re </a:t>
            </a: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equivalent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, 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3 and Set 4 ar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quivalent set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d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5 and Set 6 are also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quivalent sets</a:t>
            </a:r>
            <a:br>
              <a:rPr sz="2000"/>
            </a:b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4 can be omitted from depiction because it is equivalent to Set 3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t 6 can be omitted from depiction because it is equivalent to Set 5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99080F5-CE5D-406E-85C2-70964A4FD80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- 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08711216-F6B5-49F3-94B9-84043D1206D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292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- streamlining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EB42369-8BB4-4569-9E10-CB304029110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1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– streamlined functional dependenc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56B478C-5907-414A-AE45-8CED06843A1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21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560" y="1553760"/>
            <a:ext cx="8839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– streamlined functional dependencies (another notation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175975D-661E-420A-954A-E98CB80448B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6080" y="2749680"/>
            <a:ext cx="90518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ypes of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functional dependencies that are used as a basis for the typical normalization process can be classified in one of the three categories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Partial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Full key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Transitive functional dependenc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2B0D8B1-B7F0-4E33-BD5A-8D7F08F59BF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artial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 column of a relation is functionally dependent on a component of a composite primary ke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ly composite primary keys have separate components, while single-column primary keys do not have separate component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ence, partial functional dependency can occur only in cases when a relation has a composite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BC1BA90-C8E2-4D43-87C9-FC3196FBC75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artial functional dependencie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 → AdCampaignName, StartDate, Duration, </a:t>
            </a:r>
            <a:br>
              <a:rPr sz="2400"/>
            </a:b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    CampaignMgrID, CampaignMgrName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Mode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→ Media, Rang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2A66586-F0C7-4B07-B45B-834898BEFDE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ull key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a primary key functionally determines the column of a relation and no separate component of the primary key partially determines the same colum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single component (non-composite) primary key, the primary key fully functionally determines all the other columns of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composite key, and portions of the key partially determine columns of a relation, then the primary key does not fully functionally determine the partially determined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F11DE39-3E80-47E1-8EA6-014114BE4A6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ull key functional dependenc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AdCampaignID, ModeID → BudgetPctg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AA34FD4-DA74-4513-B40C-402AE918A63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n insert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B2DBC4C-5B8D-4BE3-BEF3-527743F6E34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25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ransitive functional dependenc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occurs when nonkey columns functionally determine other nonkey columns of a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Nonkey colum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s a column in a relation that is neither a primary nor a candidate key colum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748E05F-47C4-4139-98EB-6D5BADC8796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320" y="1554120"/>
            <a:ext cx="90676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ransitive functional dependenc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in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D CAMPAIGN MIX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xample)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CampaignMgrID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Aparajita"/>
                <a:ea typeface="Aparajita"/>
              </a:rPr>
              <a:t> → CampaignMgrNam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56BE1C4-7A44-45F1-8F90-D787DC7ECDE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UNCTIONAL DEPENDENC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560" y="1553760"/>
            <a:ext cx="8839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unctional dependencies in the relation AD CAMPAIGN MIX (types indicated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8AE339F7-FF30-44D4-8E5B-2BFB5DFF001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080" y="2895480"/>
            <a:ext cx="90518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312408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163CF81-245D-4638-B32F-296B6C03402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RECRUITING (functional dependencies sh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168768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515F210-D10B-403C-B3ED-B75B2D5F1CE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ormalization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process used to improve the design of relational databa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ormal form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 representing a set of particular conditions (whose purpose is reducing data redundancy) that a table has to satisf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rom a lower to a higher normal form, these conditions are increasingly stricter and leave less possibility for redundant dat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CA1DA13E-0D98-4813-A2DE-3E1B91D2980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re are several normal forms, most fundamental of which are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First normal form (1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Second normal form (2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Third normal form (3NF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E67F1A10-C204-41DD-BCF0-978992EEE52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normalization process involves examining each table and verifying if it satisfies a particula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 table satisfies a particular normal form, then the next step is to verify if that relation satisfies the next highe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 table does not satisfy a particular normal form, actions are taken to convert the table into a set of tables that satisfy the particular normal for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6F849CD-6421-424E-A13F-FB670760165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rmalizing to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first normal form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s done on non-relational tables in order to convert them to relational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rmalizing to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subsequent normal forms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(e.g., second normal form, third normal form) improves the design of relational tables that contain redundant information and alleviates the problem of update anomal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146C2BE-04F2-49A8-86AF-C0F53AE9742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irst Normal Form (1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1NF if each row is unique and no column in any row contains multiple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NF states that each value in each column of a table must be a single value from the domain of the colum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elational table is, by definition, in 1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lated multivalued columns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columns in a table that refer to the same real-world concept (entity) and can have multiple values per recor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o 1NF involves eliminating groups of related multi-valued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A8E7F42-CB09-4C0A-AAB7-4DFECD820CB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delete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8C5CD4F-5A06-46F3-9D9D-8583FCCC3DF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506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tent Placeholder 2"/>
          <p:cNvSpPr/>
          <p:nvPr/>
        </p:nvSpPr>
        <p:spPr>
          <a:xfrm>
            <a:off x="0" y="9777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Non-relational table (not in 1NF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-12600" y="3886200"/>
            <a:ext cx="382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 by increasing the number of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4038480" y="977760"/>
            <a:ext cx="4480200" cy="274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4038480" y="3886200"/>
            <a:ext cx="4579920" cy="274320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23D8EF64-B5B7-49F0-856C-1E3FC9DE880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tent Placeholder 2"/>
          <p:cNvSpPr/>
          <p:nvPr/>
        </p:nvSpPr>
        <p:spPr>
          <a:xfrm>
            <a:off x="0" y="9777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Non-relational table (not in 1NF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-12600" y="3886200"/>
            <a:ext cx="3822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by creating a new, separate </a:t>
            </a:r>
            <a:br>
              <a:rPr sz="2000"/>
            </a:b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4038480" y="977760"/>
            <a:ext cx="4480200" cy="274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565440" y="3840120"/>
            <a:ext cx="5546880" cy="274320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67E0FEF-6848-4056-A82D-165EE17BC25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ontent Placeholder 2"/>
          <p:cNvSpPr/>
          <p:nvPr/>
        </p:nvSpPr>
        <p:spPr>
          <a:xfrm>
            <a:off x="0" y="55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n-relational table (not in 1NF) with two groups of related multivalue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-12600" y="388620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the table to 1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143000" y="1015920"/>
            <a:ext cx="6084720" cy="292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888840" y="4267080"/>
            <a:ext cx="7353360" cy="233676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0E2429A-183D-447E-820B-BDF747FFBDE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cond Normal Form (2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2NF if it is in 1NF and if it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does not contain partial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has a single-column primary key, then there is no possibility of partial functional dependenc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Such a relation is automatically in 2NF and it does not have to be normalized to 2NF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 relation with a composite primary key has partial dependencies, then it is not in 2NF, and it has to be normalized it to 2N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CB717F9-5E73-4FA1-84F5-4782AF3ECE3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Second Normal Form (2NF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ation of a relation to 2NF creates additional relations for each set of partial dependencies in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primary key of the additional relation is the portion of the primary key that functionally determines the columns in the original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columns that were partially determined in the original relation are part of the additional tabl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original table remains after the process of normalizing to 2NF, but it no longer contains the partially dependent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16C8B59-35E5-4C14-BE5A-C9FF7D37878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0" y="55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-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0" y="320040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6080" y="3657600"/>
            <a:ext cx="9051840" cy="304308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FAF297EB-89C3-47CB-9DCA-0A59A1D12CA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27000" y="1143000"/>
            <a:ext cx="90518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ird Normal Form (3NF)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A table is in 3NF if it is in 2NF and if it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does not contain transitive functional dependenc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3C59FAD-9073-4960-B6AD-49DA9EBD2DC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NORMALIZA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554120"/>
            <a:ext cx="868680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Third Normal Form (3NF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ation of a relation to 3NF creates additional relations for each set of transitive dependencies in a relation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primary key of the additional relation is the nonkey column (or columns) that functionally determined the nonkey columns in the original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nonkey columns that were transitively determined in the original relation are part of the additional table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original table remains after normalizing to 3NF, but it no longer contains the transitively dependent colum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1ADB872E-E942-40AD-BCA9-D52B29B69E7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ontent Placeholder 2"/>
          <p:cNvSpPr/>
          <p:nvPr/>
        </p:nvSpPr>
        <p:spPr>
          <a:xfrm>
            <a:off x="5868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2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46080" y="3581280"/>
            <a:ext cx="915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Pressly Ad Agency example - normalized to 3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4240" y="800280"/>
            <a:ext cx="8159760" cy="2743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84240" y="3873600"/>
            <a:ext cx="8718480" cy="2825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CD310C3-FFC5-467D-8FE5-D0E4562ED0D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8424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 – relational schema of 3NF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527120" y="1168560"/>
            <a:ext cx="6077160" cy="474336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AABA88B-C5EC-4C64-9948-6E07EB9EDFB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modification ope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A856BAB5-183F-46C4-B0F7-1435936469D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43200" y="2011320"/>
            <a:ext cx="4325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relation AD CAMPAIGN MIX – not normalized, prone to update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9600" y="1600200"/>
            <a:ext cx="9053640" cy="33400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C57C2F0E-4F12-443D-B367-3CA3B6C49CA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—normalized relations wit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2444760" y="366840"/>
            <a:ext cx="440388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6065A93-9A01-48FC-9869-E4A242B0155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444760" y="379440"/>
            <a:ext cx="505152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ressly Ad Agency example—normalized relations with data, update anomalies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7EC296CD-82DE-4F76-86F5-BCF5C163EB0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nother normalization 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2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0" y="3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- relation RECRU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ontent Placeholder 2"/>
          <p:cNvSpPr/>
          <p:nvPr/>
        </p:nvSpPr>
        <p:spPr>
          <a:xfrm>
            <a:off x="46080" y="257796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to 2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04920" y="787320"/>
            <a:ext cx="7315200" cy="1363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274680" y="2984400"/>
            <a:ext cx="5513400" cy="338292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69706176-C04D-4E14-80B9-7FE33A17D0B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nother normalization 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Normalizing a table to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3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46080" y="2577960"/>
            <a:ext cx="9156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to 3N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74680" y="2952720"/>
            <a:ext cx="7745400" cy="347508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014C5F2-E1B2-4D77-9F3F-7EF096F8220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6080" y="1600200"/>
            <a:ext cx="9051840" cy="3124080"/>
          </a:xfrm>
          <a:prstGeom prst="rect">
            <a:avLst/>
          </a:prstGeom>
          <a:ln w="0">
            <a:noFill/>
          </a:ln>
        </p:spPr>
      </p:pic>
      <p:sp>
        <p:nvSpPr>
          <p:cNvPr id="35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entral Plane University relation RECRUITING – not normalized, prone to update anoma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B4984B03-C7ED-4D4B-929D-E0055FDB930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-11160" y="0"/>
            <a:ext cx="9155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entral Plane University example - normalized relations with data (redundancy eliminated and update anomalies resol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485640" y="838080"/>
            <a:ext cx="8172720" cy="567720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5EEE25C1-2C30-4737-A909-DB190D8F9E8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OPERATION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pdate operation terminology note: in practice there are two different uses of the term “update operation”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A)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Update operatio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s a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collective term for insert, delete and modify operation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B) Update operation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s a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synonym for the modify oper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 this chapter we will use the term update operation as defined in A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4D830802-EBEF-48C5-9CB2-447987F495E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UPDATE ANOMAL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Update anomalies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anomalies in relations that contain redundant (unnecessarily repeating) data, caused by update oper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Insertion anomal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occurs when inserting data about one real-world entity requires inserting data about another real-world entit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Deletion anomal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occurs when deletion of data about a real-world entity forces deletion of data about another real-world entit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Modification anomaly -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ccurs when, in order to modify one real-world value, the same modification has to be made multiple tim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C1275A1E-188B-4A04-8A23-90EFD47B980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AD CAMPAIGN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9600" y="1600200"/>
            <a:ext cx="90536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9FADE007-38F3-4C58-B86F-AD1F816938D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6360" y="1600200"/>
            <a:ext cx="9052200" cy="474012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relation AD CAMPAIGN MIX (contains redundant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4 – Slide  </a:t>
            </a:r>
            <a:fld id="{99122251-5B12-40A4-965C-E41856BD3E1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3-02-25T19:48:37Z</dcterms:modified>
  <cp:revision>104</cp:revision>
  <dc:subject/>
  <dc:title>CHAPTER 1 - Introduction</dc:title>
</cp:coreProperties>
</file>