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02B9-9BAE-4771-B9E8-4E1516A47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78A9-A5C5-49E9-9180-F6A346F3C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7A8F-9FCA-40E6-98AE-9815E16DB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639-6A84-4835-AAE1-1176D533B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59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827-BD87-45C5-A3B4-0C3552F56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E14-1DF6-4E5A-AB07-193CC62A0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60-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159-863A-4F7B-A67D-E4FE77B58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60-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C6FC-F3BC-477B-BE24-CD4B029A5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EEE8-E713-4558-BE15-25E756032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E9FE-CEE0-4857-8982-2164B46E8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344D-42D7-4F4D-9BDD-ED1B573CD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database requirements are collected and visualized as an ER diagram, the next step in creating a relational database is to map (convert) the ER diagram into a relational sche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E72A-FA6C-4836-9E50-8206CEEC0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1229-A698-4114-9B20-4BD5271AB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0E03-3CBF-4DFC-BF52-8A30845DD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D928-E496-4B6D-932F-CDE4AE062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AB9-F74A-4D82-9CFD-61606E842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014D-B7F6-4466-BE42-6AB60F0E0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630C-A11E-4785-8B30-691E4AE6B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D7F9-C106-4A2C-98EA-DED5FF046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B122-32BC-4F6A-8CD6-4ABD11465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8A2-89AC-41D1-B0D0-63C75B5CF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6D91-4635-4BC7-AC87-9F6692EAF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5111-A6F7-4739-95C7-0C6CAFB98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6BD8-425D-4053-918B-08E805D59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7ADC-1644-4B92-9B11-C8681F7A1E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87EF-E53F-4445-AB24-216B8D6BC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55F2-ABFC-4276-940D-CB8D2267E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75D6-197E-4B18-A438-3F3BDBB2B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67-6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2C8-D708-449B-B5ED-39EB20994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whenever there is a choice between an optional and a mandatory foreign key, choosing the mandatory foreign key is recomm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7DD8-4D50-49A7-91CB-455AE911C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B3D8-402D-487D-B3B7-622F89416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3EC1-2348-40E0-8E45-268406E3C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6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11CB-A28E-4D8C-81E7-C4C243629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66B-F5C5-4F28-BBF2-E51756E13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1CBC-68D8-4F0C-8D2E-08555277A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FDD-088D-48F1-B986-887ABA503B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D374-7173-4158-A30A-3AB263DC3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tity can have more than one unique attribute.  In such cases each unique attribute is also called a candidate 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DB7-7A4A-43F6-B881-ACC5D10FA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B941-6241-4493-9827-40C61792E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E918-AD00-4979-953C-F953047FD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BF99-5A71-47E8-B1CC-A2C6AE656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371F-5EF3-4C52-9240-5A8AFD29A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73AC-6AC1-4B3E-9823-A977C7CD2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77B-366E-4B3C-A100-5F21CEA44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8D27-5DA8-44D5-B0A4-3777FBB5E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8B98-36F0-47B1-AC0C-1C33AD7C7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7B41-83FB-4A8C-AB87-6F4E9A043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AFE2-1B6D-41BB-A85C-FCB687AC6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778-8811-4EB7-999A-1CF445710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FD82-810F-47D0-B7FB-799BD01DB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EFCD-D41C-4EDD-80F1-62AFF0DA2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9EFB-7E59-4104-BF72-9D79FF34C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254-B0B9-4B3D-9E96-FDA845752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9D28-6A8A-4C6B-90E7-8370ECA3E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ot unusual for the same entities in an ER diagram to be related via more than one relation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2134-A643-4720-8A50-A262A8C58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5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868E-96A4-4B52-8087-D29E305F3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3CA7-B40D-4EB5-BFF6-EDFC80E50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CB0C-90DC-4FDC-B60E-077815585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47C-4D17-4529-9A44-074E7ADD1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21C-8784-4FE4-B413-CEE2E9C44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806-318F-41BD-BED6-8F9643441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FA84-595E-40A6-882D-B8E8635C4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7068-E283-418F-A0B7-E4F9C4059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3803-36EF-49D0-90DE-602EA3880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7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E338-9929-4F20-96AF-897404B83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400B-A190-4445-B50B-8A276237E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58-5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F04-6D1E-400D-8E46-BA6E0C084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B4DD-201C-4691-A146-023A6B66C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F38-D7D4-46CE-8805-E8E4AF4AF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140-06FF-4BE9-83F8-1612433E8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4CE-224D-4A28-A921-7435AD601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s 81-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BC2C-6DC0-4CA9-ACD4-52A8A98BB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CE8-3EFF-4929-9347-1A1AA173E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ample is discussed on Page 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44D-FA4E-47AA-9D0A-AC086A3AA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1576-17C7-4713-A03D-4172C10C3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253-9929-44E3-AEF5-1AEB7AD62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D589-0046-4185-8EC4-F4C317154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8106-D878-4F10-81B6-B1DC89FFD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4770-F047-470B-9AA5-9A2E6E746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38430-805A-488C-BC92-B3E3B2794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C259-34A8-4825-9E4B-58B99E178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F8DD-BAFB-4B65-9331-E732C12EB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FD8C-1B5C-4A81-A423-0C9DE634E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93BC-684E-4C9E-A73D-A5F4C5E7B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5AA0-67F8-4CBD-B859-AEEBA6DE3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0A16-142C-403F-B30A-1B5C14777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204B-A56D-4664-B384-F4FBBDC14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F4A2F-CD75-4D5C-AFD3-30D794200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4e3b3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89101898-74BB-4740-8F55-BF6A4352D95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ooter Placeholder 3"/>
          <p:cNvSpPr/>
          <p:nvPr/>
        </p:nvSpPr>
        <p:spPr>
          <a:xfrm>
            <a:off x="3657600" y="662940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Copyright (c) 2014 Pearson Education, Inc</a:t>
            </a: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Straight Connector 14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1" name="Straight Connector 14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4e3b3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4e3b3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225360" y="4853160"/>
            <a:ext cx="8613720" cy="1223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Database Systems -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Franklin Gothic Book"/>
              </a:rPr>
              <a:t>Introduction to Databases and Data Warehou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PRIMARY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BAB8837-D000-49EA-B0D3-B9BCC728DEA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lation with the primary key underlin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25760" y="2286000"/>
            <a:ext cx="5962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R DIAGRAMS INTO RELATIONAL SCHEMA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nce an ER diagram is constructed, it is subsequently mapped into a relational schema (collection of relation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9611494-D8BB-40E4-9ED9-9A506918A27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gular entity becomes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gular attribute of a regular entity becomes a column of the newly creat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an entity has a single unique attribute, then that attribute becomes the primary key in the resulting mapp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65FC642-C7A1-4C95-B294-9497ED1CF1B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218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mapped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6F5DFA5-171F-4815-BE50-4551B15B2E5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631960" y="1143000"/>
            <a:ext cx="4572000" cy="349560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2"/>
          <p:cNvSpPr/>
          <p:nvPr/>
        </p:nvSpPr>
        <p:spPr>
          <a:xfrm>
            <a:off x="304920" y="4952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2819520" y="4791240"/>
            <a:ext cx="340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composite attribut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component of a composite attribute is mapped as a column of a relatio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composite attribute itself does not appear in the mapp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02D7EDE-3AA1-471B-9FD5-ACE43E08BE2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8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tity with a composite attribute mapped into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BE0A1DC-5BFE-4CAE-8965-F5A23BE8219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978280" y="1162080"/>
            <a:ext cx="4098960" cy="3565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22560" y="4807080"/>
            <a:ext cx="4078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26668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e3b30"/>
                </a:solidFill>
                <a:latin typeface="Franklin Gothic Book"/>
              </a:rPr>
              <a:t>The mapped relation as presented to a user in a front-end application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0CCEDD3-7E4B-448B-851F-CC8D10ECA9AB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40784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COMPOSITE PRIMARY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Composite primary key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 primary key that is composed of multiple colum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olumn names of a composite primary key are underlined, because combined together they form the primary key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9BB8DF9-483A-4C3C-9622-7FDF5B82D4E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UNIQUE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unique composite attribut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 entity whose only unique attribute is a composite attribute is mapped as a relation with a composite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7DFDCD9-1C60-421E-AC85-9463A2F1B72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ENTITIES WITH UNIQUE COMPOSITE ATTRIBUT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8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tity with a unique composite attribute mapped into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82160A6B-3573-4392-B3DD-45DDD6BBC4B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2954160" y="1066680"/>
            <a:ext cx="3554640" cy="3657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200400" y="4824360"/>
            <a:ext cx="2801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atabase model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gical database model that represents a database as a collection of related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schema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- visual depiction of the relational database mod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ost contemporary commercial DBMS software packages, are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BMS (RDBMS)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ftware packag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FE9890D-D4DB-4778-8E4D-20FB2B9BCD0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 WITH OPTIONAL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optional attributes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ptional attribute of an entity is mapped as an optional colum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D6F7190-6FA2-4B77-AD12-EF8527970A7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ENTITIES WITH OPTIONAL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218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ntity with an optional attribute mapped into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E957D6E-FF19-4F08-8982-71EF264E1E3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4481640" cy="3657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3429000" y="4775040"/>
            <a:ext cx="24019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ENTITY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Entity integrity constraint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in a relational table, no primary key column can have null (empty) valu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rule stating that no primary key column can be optiona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very RBMS enforces this rul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BFCC15F-D015-4BA6-A617-A99373E5037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ENTITY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554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tity integrity constraint — compliance and violation 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BF688C9-0C3A-435E-BB76-8CC7BB9F46E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7150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ENTITY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554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tity integrity constraint — another compliance and violation 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5712CCA-E9CE-4CB5-8404-4D699B3A4DC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635040" y="2666880"/>
            <a:ext cx="7924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FOREIGN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Foreign key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column in a relation that refers to a primary key column in another (referred) rel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mechanism that is used to depict relationships in the relational database mod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r every occurrence of a foreign key, the relational schema contains a line pointing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from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th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foreign ke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o th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corresponding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478A7BD-0DE9-4586-9871-B76A85C6A40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1:M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e relation mapped from the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entity on the M side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of the 1:M  relationship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has a foreign key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at corresponds to the primary key of the relation mapped from the 1 side of the 1:M relationship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B27E951-26AC-472B-A71A-524742EBB43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27DAC31-926B-4430-9D59-C901AB5E503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219320"/>
            <a:ext cx="1828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039760" y="1117440"/>
            <a:ext cx="7040880" cy="30862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8"/>
          <p:cNvGrpSpPr/>
          <p:nvPr/>
        </p:nvGrpSpPr>
        <p:grpSpPr>
          <a:xfrm>
            <a:off x="2616120" y="4724280"/>
            <a:ext cx="4078440" cy="1646280"/>
            <a:chOff x="2616120" y="4724280"/>
            <a:chExt cx="4078440" cy="1646280"/>
          </a:xfrm>
        </p:grpSpPr>
        <p:pic>
          <p:nvPicPr>
            <p:cNvPr id="236" name="Picture 4" descr=""/>
            <p:cNvPicPr/>
            <p:nvPr/>
          </p:nvPicPr>
          <p:blipFill>
            <a:blip r:embed="rId2"/>
            <a:stretch/>
          </p:blipFill>
          <p:spPr>
            <a:xfrm>
              <a:off x="2616120" y="4724280"/>
              <a:ext cx="226620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" descr=""/>
            <p:cNvPicPr/>
            <p:nvPr/>
          </p:nvPicPr>
          <p:blipFill>
            <a:blip r:embed="rId3"/>
            <a:stretch/>
          </p:blipFill>
          <p:spPr>
            <a:xfrm>
              <a:off x="4882320" y="4724280"/>
              <a:ext cx="1812240" cy="11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4226F1B-7FAA-4852-91A4-22B03B3002D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Mandatory participation on both sid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039760" y="1117440"/>
            <a:ext cx="7040880" cy="308628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2"/>
          <p:cNvGrpSpPr/>
          <p:nvPr/>
        </p:nvGrpSpPr>
        <p:grpSpPr>
          <a:xfrm>
            <a:off x="2616120" y="4724280"/>
            <a:ext cx="4078440" cy="1646280"/>
            <a:chOff x="2616120" y="4724280"/>
            <a:chExt cx="4078440" cy="1646280"/>
          </a:xfrm>
        </p:grpSpPr>
        <p:pic>
          <p:nvPicPr>
            <p:cNvPr id="245" name="Picture 4" descr=""/>
            <p:cNvPicPr/>
            <p:nvPr/>
          </p:nvPicPr>
          <p:blipFill>
            <a:blip r:embed="rId2"/>
            <a:stretch/>
          </p:blipFill>
          <p:spPr>
            <a:xfrm>
              <a:off x="2616120" y="4724280"/>
              <a:ext cx="226620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"/>
            <p:cNvPicPr/>
            <p:nvPr/>
          </p:nvPicPr>
          <p:blipFill>
            <a:blip r:embed="rId3"/>
            <a:stretch/>
          </p:blipFill>
          <p:spPr>
            <a:xfrm>
              <a:off x="4882320" y="4724280"/>
              <a:ext cx="1812240" cy="11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046DE37-E531-4DC7-87CF-6B6088A826E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218960"/>
            <a:ext cx="1828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Optional participation on the 1 sid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7042320" cy="3078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2"/>
          <p:cNvGrpSpPr/>
          <p:nvPr/>
        </p:nvGrpSpPr>
        <p:grpSpPr>
          <a:xfrm>
            <a:off x="2651040" y="4724280"/>
            <a:ext cx="4043520" cy="1613160"/>
            <a:chOff x="2651040" y="4724280"/>
            <a:chExt cx="4043520" cy="161316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4881960" y="4724280"/>
              <a:ext cx="1812600" cy="11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5" descr=""/>
            <p:cNvPicPr/>
            <p:nvPr/>
          </p:nvPicPr>
          <p:blipFill>
            <a:blip r:embed="rId3"/>
            <a:stretch/>
          </p:blipFill>
          <p:spPr>
            <a:xfrm>
              <a:off x="2651040" y="4727160"/>
              <a:ext cx="2232360" cy="161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rminolog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513C94E-088D-4028-8FCB-8ACC0E7E7D6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09600" y="2895480"/>
            <a:ext cx="85248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D8F63C5-F980-4E44-A344-A79564566E27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Optional participation on</a:t>
            </a:r>
            <a:br>
              <a:rPr sz="1800"/>
            </a:b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the M sid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710892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2"/>
          <p:cNvGrpSpPr/>
          <p:nvPr/>
        </p:nvGrpSpPr>
        <p:grpSpPr>
          <a:xfrm>
            <a:off x="2616120" y="4724280"/>
            <a:ext cx="4076640" cy="1646280"/>
            <a:chOff x="2616120" y="4724280"/>
            <a:chExt cx="4076640" cy="1646280"/>
          </a:xfrm>
        </p:grpSpPr>
        <p:pic>
          <p:nvPicPr>
            <p:cNvPr id="263" name="Picture 4" descr=""/>
            <p:cNvPicPr/>
            <p:nvPr/>
          </p:nvPicPr>
          <p:blipFill>
            <a:blip r:embed="rId2"/>
            <a:stretch/>
          </p:blipFill>
          <p:spPr>
            <a:xfrm>
              <a:off x="2616120" y="4724280"/>
              <a:ext cx="226620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3" descr=""/>
            <p:cNvPicPr/>
            <p:nvPr/>
          </p:nvPicPr>
          <p:blipFill>
            <a:blip r:embed="rId3"/>
            <a:stretch/>
          </p:blipFill>
          <p:spPr>
            <a:xfrm>
              <a:off x="4882680" y="4727160"/>
              <a:ext cx="1810080" cy="140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F297AAF-593E-4A91-9814-C76946B30FD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M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Renaming a foreign ke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7070760" cy="309096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"/>
          <p:cNvGrpSpPr/>
          <p:nvPr/>
        </p:nvGrpSpPr>
        <p:grpSpPr>
          <a:xfrm>
            <a:off x="2603520" y="4662360"/>
            <a:ext cx="4603680" cy="1463760"/>
            <a:chOff x="2603520" y="4662360"/>
            <a:chExt cx="4603680" cy="1463760"/>
          </a:xfrm>
        </p:grpSpPr>
        <p:pic>
          <p:nvPicPr>
            <p:cNvPr id="272" name="Picture 4" descr=""/>
            <p:cNvPicPr/>
            <p:nvPr/>
          </p:nvPicPr>
          <p:blipFill>
            <a:blip r:embed="rId2"/>
            <a:stretch/>
          </p:blipFill>
          <p:spPr>
            <a:xfrm>
              <a:off x="2603520" y="4662360"/>
              <a:ext cx="2841480" cy="14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" descr=""/>
            <p:cNvPicPr/>
            <p:nvPr/>
          </p:nvPicPr>
          <p:blipFill>
            <a:blip r:embed="rId3"/>
            <a:stretch/>
          </p:blipFill>
          <p:spPr>
            <a:xfrm>
              <a:off x="5445000" y="4662360"/>
              <a:ext cx="1762200" cy="12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M:N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addition to the two relations representing the two entities involved in the M:N relationship,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another relation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s created to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represent the M:N relationship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 it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is new relation has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two foreign keys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, corresponding to the primary keys of the two relations representing the two entities involved in the M:N relationshi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e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two foreign keys form the composite primary key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of the new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F45C259-C22B-4555-A3C7-433ED05DA70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E50395B-CE62-4255-BF0A-04346764444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n M:N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6400800" cy="379404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6"/>
          <p:cNvGrpSpPr/>
          <p:nvPr/>
        </p:nvGrpSpPr>
        <p:grpSpPr>
          <a:xfrm>
            <a:off x="2209680" y="4952880"/>
            <a:ext cx="5673960" cy="1646280"/>
            <a:chOff x="2209680" y="4952880"/>
            <a:chExt cx="5673960" cy="1646280"/>
          </a:xfrm>
        </p:grpSpPr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2209680" y="4952880"/>
              <a:ext cx="2583000" cy="11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" descr=""/>
            <p:cNvPicPr/>
            <p:nvPr/>
          </p:nvPicPr>
          <p:blipFill>
            <a:blip r:embed="rId3"/>
            <a:stretch/>
          </p:blipFill>
          <p:spPr>
            <a:xfrm>
              <a:off x="4780080" y="4952880"/>
              <a:ext cx="1944360" cy="10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" descr=""/>
            <p:cNvPicPr/>
            <p:nvPr/>
          </p:nvPicPr>
          <p:blipFill>
            <a:blip r:embed="rId4"/>
            <a:stretch/>
          </p:blipFill>
          <p:spPr>
            <a:xfrm>
              <a:off x="6711840" y="4952880"/>
              <a:ext cx="1171800" cy="164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CF5B543-01BE-4C0F-8C4B-C421B368B52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n M:N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Optional participation on both sides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64008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6"/>
          <p:cNvGrpSpPr/>
          <p:nvPr/>
        </p:nvGrpSpPr>
        <p:grpSpPr>
          <a:xfrm>
            <a:off x="2209680" y="4952880"/>
            <a:ext cx="5673960" cy="1646280"/>
            <a:chOff x="2209680" y="4952880"/>
            <a:chExt cx="5673960" cy="1646280"/>
          </a:xfrm>
        </p:grpSpPr>
        <p:pic>
          <p:nvPicPr>
            <p:cNvPr id="295" name="Picture 4" descr=""/>
            <p:cNvPicPr/>
            <p:nvPr/>
          </p:nvPicPr>
          <p:blipFill>
            <a:blip r:embed="rId2"/>
            <a:stretch/>
          </p:blipFill>
          <p:spPr>
            <a:xfrm>
              <a:off x="4756320" y="4952880"/>
              <a:ext cx="2011680" cy="133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3" descr=""/>
            <p:cNvPicPr/>
            <p:nvPr/>
          </p:nvPicPr>
          <p:blipFill>
            <a:blip r:embed="rId3"/>
            <a:stretch/>
          </p:blipFill>
          <p:spPr>
            <a:xfrm>
              <a:off x="2209680" y="4952880"/>
              <a:ext cx="2546640" cy="12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5" descr=""/>
            <p:cNvPicPr/>
            <p:nvPr/>
          </p:nvPicPr>
          <p:blipFill>
            <a:blip r:embed="rId4"/>
            <a:stretch/>
          </p:blipFill>
          <p:spPr>
            <a:xfrm>
              <a:off x="6711840" y="4952880"/>
              <a:ext cx="1171800" cy="164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2212132-6589-40CD-A7B2-68B88033C1D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M:N relationship with an attribute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038320" y="1116000"/>
            <a:ext cx="6400800" cy="374652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6"/>
          <p:cNvGrpSpPr/>
          <p:nvPr/>
        </p:nvGrpSpPr>
        <p:grpSpPr>
          <a:xfrm>
            <a:off x="2209680" y="4952880"/>
            <a:ext cx="6215040" cy="1660680"/>
            <a:chOff x="2209680" y="4952880"/>
            <a:chExt cx="6215040" cy="1660680"/>
          </a:xfrm>
        </p:grpSpPr>
        <p:pic>
          <p:nvPicPr>
            <p:cNvPr id="305" name="Picture 4" descr=""/>
            <p:cNvPicPr/>
            <p:nvPr/>
          </p:nvPicPr>
          <p:blipFill>
            <a:blip r:embed="rId2"/>
            <a:stretch/>
          </p:blipFill>
          <p:spPr>
            <a:xfrm>
              <a:off x="6712200" y="4967640"/>
              <a:ext cx="1712520" cy="164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3" descr=""/>
            <p:cNvPicPr/>
            <p:nvPr/>
          </p:nvPicPr>
          <p:blipFill>
            <a:blip r:embed="rId3"/>
            <a:stretch/>
          </p:blipFill>
          <p:spPr>
            <a:xfrm>
              <a:off x="2209680" y="4952880"/>
              <a:ext cx="258336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4" descr=""/>
            <p:cNvPicPr/>
            <p:nvPr/>
          </p:nvPicPr>
          <p:blipFill>
            <a:blip r:embed="rId4"/>
            <a:stretch/>
          </p:blipFill>
          <p:spPr>
            <a:xfrm>
              <a:off x="4780440" y="4952880"/>
              <a:ext cx="1944360" cy="109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1:1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:1 relationships are mapped in the same way as 1:M relationships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e of the resulting relations will have a foreign key pointing to the primary key of another resulting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e of the mapped relations is chosen to have a foreign key referring to the primary key of the other mapped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 cases when there is no particular advantage in choosing which resulting relation will include a foreign key, the choice can be arbitrar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 other cases one choice can be more efficient than the othe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5EEB8D2-D1C9-44D5-B468-F5B7E2B1FD5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RELATIONSHIPS INTO RELATIONAL DATABASE CONSTRUCT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A95D4DD-AAA7-4BAD-9B83-1E5C8B7A29A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219320"/>
            <a:ext cx="18288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ample - Mapping a 1:1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304920" y="4952880"/>
            <a:ext cx="2286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 mapped ER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C:\Users\user\Desktop\F3.29.png"/>
          <p:cNvPicPr/>
          <p:nvPr/>
        </p:nvPicPr>
        <p:blipFill>
          <a:blip r:embed="rId1"/>
          <a:stretch/>
        </p:blipFill>
        <p:spPr>
          <a:xfrm>
            <a:off x="2090880" y="1066680"/>
            <a:ext cx="7078680" cy="3090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Giga\Dropbox\Ljeto2013\FixFigure3.30.jpg"/>
          <p:cNvPicPr/>
          <p:nvPr/>
        </p:nvPicPr>
        <p:blipFill>
          <a:blip r:embed="rId2"/>
          <a:srcRect l="0" t="0" r="76670" b="53056"/>
          <a:stretch/>
        </p:blipFill>
        <p:spPr>
          <a:xfrm>
            <a:off x="2514600" y="4191120"/>
            <a:ext cx="18669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FERENTIAL INTEGRITY CONSTRAINT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ferential integrity constraint -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In each row of a relation  containing a foreign key, the value of the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foreign key EITHER matches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one of the values in the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primary key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column of the referred relation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OR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the value of </a:t>
            </a: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the foreign key is null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 (empty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rule that defines values that are valid for use in foreign key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 a relational schema lines pointing from the foreign key to the corresponding primary key are referred to as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referential integrity constraint li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C07D468-5932-4397-A160-6A31DD1D009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REFERENTIAL INTEGRITY CONSTRAINT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360" y="1155600"/>
            <a:ext cx="367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ferential</a:t>
            </a:r>
            <a:r>
              <a:rPr b="1" lang="en-US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ntegrity constraint —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compliance and violation exampl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A308B46-8A57-4BE2-B5CA-DF4390ED58B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38494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ble in a relational databa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 table containing rows and column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main construct in the relational database model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very relation is a table, not every table is a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B5415D9-3959-46B5-ADCE-360841A749C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25705A0-28F9-4768-B600-E58837121D4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ER diagram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ZAGI Retail Company Sales Depart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62000" y="457200"/>
            <a:ext cx="8820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DE60E5A-649A-4484-ABB8-C989539C9BE9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-11160" y="0"/>
            <a:ext cx="91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mapped relational schema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ZAGI Retail Company Sales Depart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449280" y="698400"/>
            <a:ext cx="831060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E5DF68F-C317-4694-A15A-03351D36850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-11160" y="0"/>
            <a:ext cx="91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Sample data records for the ZAGI Retail Company Sales Depart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31760" y="914400"/>
            <a:ext cx="88693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CANDIDATE KEY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candidate keys (multiple unique attributes) into rel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ne of the candidate keys is chosen by database designer the as a primary key during the mapping proces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Other candidate keys are mapped as non-primary key column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0180CFF-BBC1-4D77-B7C1-2919D48EF40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Medium"/>
              </a:rPr>
              <a:t>MAPPING ENTITIES WITH CANDIDATE KEYS (MULTIPLE UNIQUE ATTRIBUTES) INTO RELATIONS</a:t>
            </a:r>
            <a:br>
              <a:rPr sz="2600"/>
            </a:br>
            <a:endParaRPr b="0" lang="en-US" sz="2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218960"/>
            <a:ext cx="232704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candidate keys mapped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5273D6B-9247-4BB2-886E-D2C35E08A33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tent Placeholder 2"/>
          <p:cNvSpPr/>
          <p:nvPr/>
        </p:nvSpPr>
        <p:spPr>
          <a:xfrm>
            <a:off x="304920" y="495288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2631960" y="1066680"/>
            <a:ext cx="4260960" cy="3749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048120" y="4876920"/>
            <a:ext cx="2543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CANDIDATE KEY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regular and composite candidate keys mapped 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C436F6F-6904-4B39-AA29-9C7703BD3D6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631960" y="1089000"/>
            <a:ext cx="4457880" cy="3932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720880" y="5092560"/>
            <a:ext cx="342900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MULTIVALU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entities with multivalued attributes into relational database construc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n entity containing the multivalued attribute is mapped without the multi-valued attribute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multi-valued attribute is mapped as a separate relation that has a column representing the multivalued attribute and a foreign key column referring to the primary key of the relation resulting from the entity it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Both of these columns form a composite primary key for the separate relatio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C5A26F9-0998-46FC-A0A9-99C79FE2E913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MULTIVALU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multivalued attributes mapped into relation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1A33ADD-F35A-4C10-A4FE-502F236179C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819520" y="1054080"/>
            <a:ext cx="4221000" cy="329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462480" y="4389480"/>
            <a:ext cx="3044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DERIV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derived attribu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Derived attributes are not mapped as a part of the relational schem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y are implemented as a part of the database front-end applic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CA9F417-0637-447C-97B6-1D1D07405F2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DERIVED ATTRIBUT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39840" y="13251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ntity with derived attributes mapped into a rel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F19ACD8-DC17-41F6-8F7A-4B95E76D08F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339840" y="4959360"/>
            <a:ext cx="2057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1800"/>
            </a:b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1800"/>
            </a:b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4114800" y="4959360"/>
            <a:ext cx="2133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relation shown as presented to a user in a front-e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2943360" y="1249200"/>
            <a:ext cx="3457440" cy="30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2"/>
          <a:stretch/>
        </p:blipFill>
        <p:spPr>
          <a:xfrm>
            <a:off x="2133720" y="4756320"/>
            <a:ext cx="1733400" cy="1463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"/>
          <p:cNvPicPr/>
          <p:nvPr/>
        </p:nvPicPr>
        <p:blipFill>
          <a:blip r:embed="rId3"/>
          <a:stretch/>
        </p:blipFill>
        <p:spPr>
          <a:xfrm>
            <a:off x="6172200" y="4781520"/>
            <a:ext cx="26780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ble in a relational databa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 order for a table to be a relation the following conditions must hold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Each column must have a name (within one table, each column name must be unique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Within one table, each row must be uniqu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Within each row, each value in each column must be single valued (multiple values of the content represented by the column are not allowed in any rows of the table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All values in each column must be from the same (predefined) domai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Order of column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Order of row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84CADD5A-EBEF-4B2C-B2A9-A3E0FBF7315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255B8C9-9726-41BF-B79C-57616B8679D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Entity with various types of attributes mapped into a rel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755800" y="392040"/>
            <a:ext cx="368640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288608A-CD5B-4C1B-A6F7-A2B3B03BD71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Sample data records for the mapped re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nary relationships in ER diagrams are mapped in the same way as binary relationship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CC284CF9-18BD-41FD-9789-6D52BA2919B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1:M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relation mapped from an entity involved in a 1:M unary relationship contains a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foreign key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at </a:t>
            </a: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corresponds to its own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1A400F4-3969-4AC2-B8A0-9E279C82D7C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1:M unary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B630647D-5747-46AE-A094-6D29EACB0B6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3139920" y="1066680"/>
            <a:ext cx="3587760" cy="3840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3343320" y="4975200"/>
            <a:ext cx="2617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 M:N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In addition to the relation representing the entity involved in a unary M:N relationship, another relation is created to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represent the M:N relationship itsel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This new relation has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two foreign keys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, both of them corresponding to the primary key of the relation representing the entity involved in the unary M:N relationshi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Each of the </a:t>
            </a:r>
            <a:r>
              <a:rPr b="1" i="1" lang="en-US" sz="2000" spc="-1" strike="noStrike">
                <a:solidFill>
                  <a:srgbClr val="4e3b30"/>
                </a:solidFill>
                <a:latin typeface="Franklin Gothic Book"/>
              </a:rPr>
              <a:t>foreign keys is used as a part of the composite primary key </a:t>
            </a:r>
            <a:r>
              <a:rPr b="0" i="1" lang="en-US" sz="2000" spc="-1" strike="noStrike">
                <a:solidFill>
                  <a:srgbClr val="4e3b30"/>
                </a:solidFill>
                <a:latin typeface="Franklin Gothic Book"/>
              </a:rPr>
              <a:t>of the new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DCB53AD-60C8-4CA6-A7CC-5EF6DEE7528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M:N unary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FFC3B199-6769-448B-BD5D-26EA8E5A0A98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697280" cy="384012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4"/>
          <p:cNvGrpSpPr/>
          <p:nvPr/>
        </p:nvGrpSpPr>
        <p:grpSpPr>
          <a:xfrm>
            <a:off x="3073320" y="5038560"/>
            <a:ext cx="3191040" cy="1555920"/>
            <a:chOff x="3073320" y="5038560"/>
            <a:chExt cx="3191040" cy="1555920"/>
          </a:xfrm>
        </p:grpSpPr>
        <p:pic>
          <p:nvPicPr>
            <p:cNvPr id="416" name="Picture 3" descr=""/>
            <p:cNvPicPr/>
            <p:nvPr/>
          </p:nvPicPr>
          <p:blipFill>
            <a:blip r:embed="rId2"/>
            <a:stretch/>
          </p:blipFill>
          <p:spPr>
            <a:xfrm>
              <a:off x="3073320" y="5038560"/>
              <a:ext cx="1592640" cy="15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4" descr=""/>
            <p:cNvPicPr/>
            <p:nvPr/>
          </p:nvPicPr>
          <p:blipFill>
            <a:blip r:embed="rId3"/>
            <a:stretch/>
          </p:blipFill>
          <p:spPr>
            <a:xfrm>
              <a:off x="4665960" y="5038560"/>
              <a:ext cx="1598400" cy="1555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 1:1 unary relationship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Mapped in the same way as 1:M unary relationship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67B2B5EE-F52F-445B-B365-2A6BEA2A88F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UNARY RELATIONSHIP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1:1 unary relationship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D63CBBB-D750-4C60-AE5F-7EE4007271E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3682800" cy="3840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3470400" y="4932360"/>
            <a:ext cx="28414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MULTIPLE RELATIONSHIPS BETWEEN THE SAME ENTITI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multiple relationships between the same entit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ship is mapp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A0A7302-8F58-43B5-AC88-B17DCA13880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relational and non-relational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C1BBC7E2-0BB1-4E5E-97D7-79651A18BF2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54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Medium"/>
              </a:rPr>
              <a:t>MAPPING MULTIPLE RELATIONSHIPS BETWEEN THE SAME ENTITIES</a:t>
            </a:r>
            <a:br>
              <a:rPr sz="29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1C42C92-3B9D-451B-A3EC-3DA45DA898F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multiple relationships between the same entiti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2743200" y="1041480"/>
            <a:ext cx="5172120" cy="374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" descr=""/>
          <p:cNvPicPr/>
          <p:nvPr/>
        </p:nvPicPr>
        <p:blipFill>
          <a:blip r:embed="rId2"/>
          <a:stretch/>
        </p:blipFill>
        <p:spPr>
          <a:xfrm>
            <a:off x="2814480" y="4856040"/>
            <a:ext cx="5054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Mapping weak entiti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Weak entities are mapped in a same way as regular entities with one addition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The resulting relation has a </a:t>
            </a: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composite primary key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that is </a:t>
            </a:r>
            <a:r>
              <a:rPr b="1" i="1" lang="en-US" sz="1800" spc="-1" strike="noStrike">
                <a:solidFill>
                  <a:srgbClr val="4e3b30"/>
                </a:solidFill>
                <a:latin typeface="Franklin Gothic Book"/>
              </a:rPr>
              <a:t>composed of the partial identifier and the foreign key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 corresponding to the primary key of the owner entity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CEAF28B6-EFFC-4927-92B4-67ABF4D8062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1C7BC88E-1144-42CF-A65D-EDA048FB24CA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228240" y="1218960"/>
            <a:ext cx="2327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weak entity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Content Placeholder 2"/>
          <p:cNvSpPr/>
          <p:nvPr/>
        </p:nvSpPr>
        <p:spPr>
          <a:xfrm>
            <a:off x="228600" y="509256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675480" cy="314784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2"/>
          <p:cNvGrpSpPr/>
          <p:nvPr/>
        </p:nvGrpSpPr>
        <p:grpSpPr>
          <a:xfrm>
            <a:off x="2819520" y="4498920"/>
            <a:ext cx="3963960" cy="2102040"/>
            <a:chOff x="2819520" y="4498920"/>
            <a:chExt cx="3963960" cy="2102040"/>
          </a:xfrm>
        </p:grpSpPr>
        <p:pic>
          <p:nvPicPr>
            <p:cNvPr id="451" name="Picture 3" descr=""/>
            <p:cNvPicPr/>
            <p:nvPr/>
          </p:nvPicPr>
          <p:blipFill>
            <a:blip r:embed="rId2"/>
            <a:stretch/>
          </p:blipFill>
          <p:spPr>
            <a:xfrm>
              <a:off x="2819520" y="4498920"/>
              <a:ext cx="15782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" descr=""/>
            <p:cNvPicPr/>
            <p:nvPr/>
          </p:nvPicPr>
          <p:blipFill>
            <a:blip r:embed="rId3"/>
            <a:stretch/>
          </p:blipFill>
          <p:spPr>
            <a:xfrm>
              <a:off x="4397760" y="4498920"/>
              <a:ext cx="2385720" cy="210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5CEBB99-32CB-4936-9F6A-804661B8D81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weak entity with two owner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2631960" y="1066680"/>
            <a:ext cx="60991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2"/>
          <p:cNvGrpSpPr/>
          <p:nvPr/>
        </p:nvGrpSpPr>
        <p:grpSpPr>
          <a:xfrm>
            <a:off x="2857680" y="4799160"/>
            <a:ext cx="5155920" cy="1920600"/>
            <a:chOff x="2857680" y="4799160"/>
            <a:chExt cx="5155920" cy="1920600"/>
          </a:xfrm>
        </p:grpSpPr>
        <p:pic>
          <p:nvPicPr>
            <p:cNvPr id="460" name="Picture 3" descr=""/>
            <p:cNvPicPr/>
            <p:nvPr/>
          </p:nvPicPr>
          <p:blipFill>
            <a:blip r:embed="rId2"/>
            <a:stretch/>
          </p:blipFill>
          <p:spPr>
            <a:xfrm>
              <a:off x="5752800" y="4799160"/>
              <a:ext cx="2260800" cy="19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5" descr=""/>
            <p:cNvPicPr/>
            <p:nvPr/>
          </p:nvPicPr>
          <p:blipFill>
            <a:blip r:embed="rId3"/>
            <a:srcRect l="0" t="0" r="0" b="3935"/>
            <a:stretch/>
          </p:blipFill>
          <p:spPr>
            <a:xfrm>
              <a:off x="2857680" y="4799160"/>
              <a:ext cx="155556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6" descr=""/>
            <p:cNvPicPr/>
            <p:nvPr/>
          </p:nvPicPr>
          <p:blipFill>
            <a:blip r:embed="rId4"/>
            <a:srcRect l="0" t="3942" r="0" b="0"/>
            <a:stretch/>
          </p:blipFill>
          <p:spPr>
            <a:xfrm>
              <a:off x="4413240" y="4799160"/>
              <a:ext cx="1339560" cy="105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MAPPING WEAK ENTITIE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E50872E9-841B-4DD7-928A-877DF638F462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240" y="1218960"/>
            <a:ext cx="2327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ing a weak entity with no partial identifie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Content Placeholder 2"/>
          <p:cNvSpPr/>
          <p:nvPr/>
        </p:nvSpPr>
        <p:spPr>
          <a:xfrm>
            <a:off x="228600" y="509256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2438280" y="1160640"/>
            <a:ext cx="6599520" cy="2993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2"/>
          <a:srcRect l="6169" t="5652" r="8013" b="7116"/>
          <a:stretch/>
        </p:blipFill>
        <p:spPr>
          <a:xfrm>
            <a:off x="4368960" y="4191120"/>
            <a:ext cx="22762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80A87345-3781-4F14-8846-D5C6BB516D9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ontent Placeholder 2"/>
          <p:cNvSpPr/>
          <p:nvPr/>
        </p:nvSpPr>
        <p:spPr>
          <a:xfrm>
            <a:off x="-11160" y="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e3b30"/>
                </a:solidFill>
                <a:latin typeface="Franklin Gothic Book"/>
              </a:rPr>
              <a:t>Example ER diagram : </a:t>
            </a:r>
            <a:r>
              <a:rPr b="0" lang="en-US" sz="1900" spc="-1" strike="noStrike">
                <a:solidFill>
                  <a:srgbClr val="4e3b30"/>
                </a:solidFill>
                <a:latin typeface="Franklin Gothic Book"/>
              </a:rPr>
              <a:t>HAFH Realty Company Property Management Datab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79320" y="654120"/>
            <a:ext cx="8209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F4A8E56-1963-4010-8C5A-C0913AC8895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 mapped relational schema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HAFH Realty Company Property Management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279360" y="1295280"/>
            <a:ext cx="8686800" cy="371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9DE1C00-F81C-441B-9A34-F8AE774271D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ample data records for the HAFH Realty Company Property Management Database (part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950160" cy="496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1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2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DFA0345A-39D3-4F48-AD99-8532A1261B5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ontent Placeholder 2"/>
          <p:cNvSpPr/>
          <p:nvPr/>
        </p:nvSpPr>
        <p:spPr>
          <a:xfrm>
            <a:off x="-11160" y="0"/>
            <a:ext cx="91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xample: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ample data records for the HAFH Realty Company Property Management Database (part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950160" cy="595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atabase constraints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ules that a relational database has to satisfy in order to be vali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Implicit constraint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implicit relational database model rules that a relational database must satisfy in order to be valid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User-defined constraint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Database constraints that are added by the database designer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74966187-3AF6-4784-AD61-1A5FA7CFFE9F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 of a relation with rows and columns appearing in a different ord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49E9B43F-C175-4190-9685-1C2E40A9830E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9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920" y="1219320"/>
            <a:ext cx="868680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mplicit constraint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 in a relational schema must have a different nam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 must satisfy the following conditions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Each column must have a different nam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Each row must be unique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 each row, each value in each column must be single valued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</a:rPr>
              <a:t>Domain constraint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-  all values in each column must be from the same predefined domain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order of column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451"/>
              </a:spcBef>
              <a:buClr>
                <a:srgbClr val="4e3b30"/>
              </a:buClr>
              <a:buSzPct val="6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The order of rows is irrelevant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Primary key constraint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- each relation must have a primary key, which is a column (or a set of columns) whose value is unique for each row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Entity integrity constrain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</a:rPr>
              <a:t>Referential integrity constrain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C049BD1-4329-4DEA-8762-5FB7890BD6B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3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User-defined constrain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Added by the database designer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23B16E9-8C44-42B6-8F83-99CCF534840C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34162684-587F-4BA1-9728-D3040EB36AC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0" y="1218960"/>
            <a:ext cx="2209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pecific minimum and maximum cardinaliti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Content Placeholder 2"/>
          <p:cNvSpPr/>
          <p:nvPr/>
        </p:nvSpPr>
        <p:spPr>
          <a:xfrm>
            <a:off x="0" y="509256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7315200" cy="2989440"/>
          </a:xfrm>
          <a:prstGeom prst="rect">
            <a:avLst/>
          </a:prstGeom>
          <a:ln w="0">
            <a:noFill/>
          </a:ln>
        </p:spPr>
      </p:pic>
      <p:grpSp>
        <p:nvGrpSpPr>
          <p:cNvPr id="504" name="Group 2"/>
          <p:cNvGrpSpPr/>
          <p:nvPr/>
        </p:nvGrpSpPr>
        <p:grpSpPr>
          <a:xfrm>
            <a:off x="2895480" y="4203720"/>
            <a:ext cx="2925720" cy="2468520"/>
            <a:chOff x="2895480" y="4203720"/>
            <a:chExt cx="2925720" cy="2468520"/>
          </a:xfrm>
        </p:grpSpPr>
        <p:pic>
          <p:nvPicPr>
            <p:cNvPr id="505" name="Picture 3" descr=""/>
            <p:cNvPicPr/>
            <p:nvPr/>
          </p:nvPicPr>
          <p:blipFill>
            <a:blip r:embed="rId2"/>
            <a:stretch/>
          </p:blipFill>
          <p:spPr>
            <a:xfrm>
              <a:off x="4472280" y="4203720"/>
              <a:ext cx="1348920" cy="24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" descr=""/>
            <p:cNvPicPr/>
            <p:nvPr/>
          </p:nvPicPr>
          <p:blipFill>
            <a:blip r:embed="rId3"/>
            <a:stretch/>
          </p:blipFill>
          <p:spPr>
            <a:xfrm>
              <a:off x="2895480" y="4203720"/>
              <a:ext cx="1576800" cy="24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04920" y="1553760"/>
            <a:ext cx="86868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Business ru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ser defined constraints that specify restrictions on databases that are not a part of the standard notation for creating ER diagram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966A5877-F821-4AC2-8916-6A3F04DEAA5D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2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650612D6-FB9D-4007-A3DA-53C510726914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usiness rule for salary amount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5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2631960" y="1066680"/>
            <a:ext cx="5902560" cy="3565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"/>
          <p:cNvPicPr/>
          <p:nvPr/>
        </p:nvPicPr>
        <p:blipFill>
          <a:blip r:embed="rId2"/>
          <a:stretch/>
        </p:blipFill>
        <p:spPr>
          <a:xfrm>
            <a:off x="3962520" y="4724280"/>
            <a:ext cx="18507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225AF530-1AEE-4A74-B98A-2E014217C7E5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usiness rule for the dates of enrollment and gradu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Content Placeholder 2"/>
          <p:cNvSpPr/>
          <p:nvPr/>
        </p:nvSpPr>
        <p:spPr>
          <a:xfrm>
            <a:off x="304920" y="5092560"/>
            <a:ext cx="2327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records for the </a:t>
            </a:r>
            <a:br>
              <a:rPr sz="2200"/>
            </a:b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986440" cy="38401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3505320" y="4965840"/>
            <a:ext cx="336204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RELATIONAL DATABASE CONSTRAINTS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5"/>
          <p:cNvSpPr/>
          <p:nvPr/>
        </p:nvSpPr>
        <p:spPr>
          <a:xfrm>
            <a:off x="658332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08DCF3FA-36B6-4EA1-A9FB-8B97DDBF4EF0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04920" y="1218960"/>
            <a:ext cx="23270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usiness rule for gender of students in an organiza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Content Placeholder 2"/>
          <p:cNvSpPr/>
          <p:nvPr/>
        </p:nvSpPr>
        <p:spPr>
          <a:xfrm>
            <a:off x="301680" y="5083200"/>
            <a:ext cx="2327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ample data records for the mapped re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590920" y="1092240"/>
            <a:ext cx="6438960" cy="39322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2"/>
          <p:cNvGrpSpPr/>
          <p:nvPr/>
        </p:nvGrpSpPr>
        <p:grpSpPr>
          <a:xfrm>
            <a:off x="2770200" y="5092560"/>
            <a:ext cx="6353280" cy="1737000"/>
            <a:chOff x="2770200" y="5092560"/>
            <a:chExt cx="6353280" cy="1737000"/>
          </a:xfrm>
        </p:grpSpPr>
        <p:pic>
          <p:nvPicPr>
            <p:cNvPr id="532" name="Picture 3" descr=""/>
            <p:cNvPicPr/>
            <p:nvPr/>
          </p:nvPicPr>
          <p:blipFill>
            <a:blip r:embed="rId2"/>
            <a:stretch/>
          </p:blipFill>
          <p:spPr>
            <a:xfrm>
              <a:off x="7886880" y="5092560"/>
              <a:ext cx="1236600" cy="17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4" descr=""/>
            <p:cNvPicPr/>
            <p:nvPr/>
          </p:nvPicPr>
          <p:blipFill>
            <a:blip r:embed="rId3"/>
            <a:stretch/>
          </p:blipFill>
          <p:spPr>
            <a:xfrm>
              <a:off x="5339520" y="5092560"/>
              <a:ext cx="254736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5" descr=""/>
            <p:cNvPicPr/>
            <p:nvPr/>
          </p:nvPicPr>
          <p:blipFill>
            <a:blip r:embed="rId4"/>
            <a:stretch/>
          </p:blipFill>
          <p:spPr>
            <a:xfrm>
              <a:off x="2770200" y="5092560"/>
              <a:ext cx="25693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INTRODUCTION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Relational database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llection of related relations within which each relation has a unique nam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5D4856F3-E8B0-4659-8217-FC8719AFEC01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PRIMARY KEY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e3b3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rimary key -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lumn (or a set of columns) whose value is unique for each row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relation must have a primary ke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4e3b3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e name of the primary key column is underlined in order to distinguish it from the other columns in the re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0" y="662940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anklin Gothic Book"/>
              </a:rPr>
              <a:t>Jukić, Vrbsky, Nestorov – Database Syste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5"/>
          <p:cNvSpPr/>
          <p:nvPr/>
        </p:nvSpPr>
        <p:spPr>
          <a:xfrm>
            <a:off x="7924680" y="662940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ranklin Gothic Book"/>
              </a:rPr>
              <a:t>Chapter 3 – Slide  </a:t>
            </a:r>
            <a:fld id="{A7896F41-7A1D-4548-9151-32C7747D7336}" type="slidenum">
              <a:rPr b="1" lang="en-US" sz="9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dcterms:modified xsi:type="dcterms:W3CDTF">2013-08-22T15:51:19Z</dcterms:modified>
  <cp:revision>152</cp:revision>
  <dc:subject/>
  <dc:title>CHAPTER 1 - Introduction</dc:title>
</cp:coreProperties>
</file>