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AC00-F606-438D-A1AE-533B12DDEF7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E9BC-A2B0-442A-A7D9-2BE777A811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12ED-55F3-4DC8-8FC7-145F553BC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304.</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DA1F-40B8-4233-9D4F-C14A44763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1434-3636-4E73-9A6D-B454D1157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EACD-FBBF-4B1B-B868-32110584F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4D1E-B1B0-42F8-947E-F5DACC5BD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847D-BE99-40C2-B7F0-AF32EA4AA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0821-A158-403E-BB37-AE926C08B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role-based access control system, the permissions associated with roles are stable, while the membership of users in roles can change. Users can change membership from one role to another as their role in an organization changes. Depending on their duties, users can be assigned several database roles. Users that are assigned several roles have all the privileges given to every role to which they are assigned.</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8EAA-8556-43E6-872F-EDD09B4C9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9894-5E1E-4DBC-9D5B-FB33456129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E8A0-FDB9-4360-A576-9945EDB2C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0C14-F76A-42BF-87D0-1A463167B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9F0F-2179-4AE7-B385-D2DFC24BB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7A75-A492-4663-B4CD-F3628C887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mirrored backup copies are continuously updated so that they completely correspond to the original database. In case the original database suffers destruction, a backup copy can be used to replace the original database in the database system.</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02EB-8208-4BD6-B207-3C59895AF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control methods are used to protect against unauthorized malicious data upd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up and recovery methods are used to protect against data integrity problems due to update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ementing constraints, such as referential integrity constraints and user-defined constraints are used to protect the data integrity against accidental mis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5BE8-1782-498E-946D-41E596AA4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65D6-DD0E-4C9B-B2AF-E2C5755EF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t of processing a query is affected by such factors as the order in which the operations are executed and whether one or more indexes are used. The order in which the operations are performed can affect the efficiency of the query (see JOIN example on Page 3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make query optimization decisions, the query optimizer maintains various relevant pieces of information, such as the number of records in a table, the size of the records, the number of distinct values in a column, and the minimum and maximum values in a column. The query optimizer also maintains similar information about each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mally, the query optimizer will pick the best optimization method without hints being specified, and hints are only intended to be used by experienced database administrators for fine-tuning.</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6D1E-8A40-47EE-88C1-DAD328F4F0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CADC-6E6D-48E8-A1A0-F6CFD9E70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671B-56AC-48DB-B82C-D845972E8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13B4-0E11-441E-8741-D300267879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C9E7-0F22-486A-BD06-E51F345AF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manipulation component can be used by end users either directly or indirectly (via front-end applications).  In the case of indirect use, the end-user applications communicate with the data manipulation component on the user’s be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C6DD-4018-4045-BD07-CEA5F2DD1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3469-6EA8-4095-B92C-EF0452A67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DBMS packages this component is a part of the DBMS. In other DBMS packages the application development component is available as an add-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53D4-97B5-44C5-B089-8DAC22290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AA55-3C9D-40B6-8E6D-F0C1E56E0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F5C9-1514-414A-A0F7-C0D6F1154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05C5DF-26C8-4B40-8B12-CE257F7411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38B9AF-180B-4B1A-99B7-5C7C17D5B8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C2F410-B9E2-4448-9714-3B52AF0A60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D20FDF-8EAB-4BDE-94AE-DF69F82012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E27F1E-0331-4260-9748-2E170B194E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A596FC-4AB2-4FCB-B005-C3D4CF1061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EDFE5A-F4E6-4C53-B7AF-4D8CCDC200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F6CBAD-161F-4051-B7CE-1404E65EA0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C29DBD-FE47-411F-928B-72DEDAB4E5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0AA9A1-032F-4414-8900-70322C5F31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8D8D71-D957-4EDD-B5E9-5668980AA3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716792-C42D-4791-BAC2-53DE3C0553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1360" cy="17640"/>
            <a:chOff x="512640" y="1042920"/>
            <a:chExt cx="8631360" cy="17640"/>
          </a:xfrm>
        </p:grpSpPr>
        <p:pic>
          <p:nvPicPr>
            <p:cNvPr id="6" name="Straight Connector 8" descr=""/>
            <p:cNvPicPr/>
            <p:nvPr/>
          </p:nvPicPr>
          <p:blipFill>
            <a:blip r:embed="rId4"/>
            <a:stretch/>
          </p:blipFill>
          <p:spPr>
            <a:xfrm>
              <a:off x="512640" y="1042920"/>
              <a:ext cx="863136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1360" cy="12600"/>
            <a:chOff x="512640" y="1054080"/>
            <a:chExt cx="8631360" cy="12600"/>
          </a:xfrm>
        </p:grpSpPr>
        <p:pic>
          <p:nvPicPr>
            <p:cNvPr id="9" name="Straight Connector 11" descr=""/>
            <p:cNvPicPr/>
            <p:nvPr/>
          </p:nvPicPr>
          <p:blipFill>
            <a:blip r:embed="rId5"/>
            <a:stretch/>
          </p:blipFill>
          <p:spPr>
            <a:xfrm>
              <a:off x="512640" y="1054080"/>
              <a:ext cx="863136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7712542A-982D-4936-9FB8-CD2E555D650B}"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1360" cy="11160"/>
            <a:chOff x="512640" y="5346720"/>
            <a:chExt cx="8631360" cy="11160"/>
          </a:xfrm>
        </p:grpSpPr>
        <p:pic>
          <p:nvPicPr>
            <p:cNvPr id="61" name="Straight Connector 14" descr=""/>
            <p:cNvPicPr/>
            <p:nvPr/>
          </p:nvPicPr>
          <p:blipFill>
            <a:blip r:embed="rId6"/>
            <a:stretch/>
          </p:blipFill>
          <p:spPr>
            <a:xfrm>
              <a:off x="512640" y="5346720"/>
              <a:ext cx="863136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845560" cy="1358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4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onitoring and maintaining the database system</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View materialization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aving a view as an actual physical table (materialized view)</a:t>
            </a:r>
            <a:endParaRPr b="0" lang="en-US" sz="1800" spc="-1" strike="noStrike">
              <a:solidFill>
                <a:srgbClr val="4e3b30"/>
              </a:solidFill>
              <a:latin typeface="Franklin Gothic Book"/>
            </a:endParaRPr>
          </a:p>
        </p:txBody>
      </p:sp>
      <p:sp>
        <p:nvSpPr>
          <p:cNvPr id="14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5"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B81C1713-A722-4792-B03C-9D43EC4AA98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4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onitoring and maintaining the database system</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 dictionary</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epository of the metadata</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atalog</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data dictionary created by the DBM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an be queried using SQL</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 </a:t>
            </a:r>
            <a:r>
              <a:rPr b="0" lang="en-US" sz="2000" spc="-1" strike="noStrike">
                <a:solidFill>
                  <a:srgbClr val="4e3b30"/>
                </a:solidFill>
                <a:latin typeface="Franklin Gothic Book"/>
              </a:rPr>
              <a:t>Sample entries in data dictionary:</a:t>
            </a:r>
            <a:endParaRPr b="0" lang="en-US" sz="2000" spc="-1" strike="noStrike">
              <a:solidFill>
                <a:srgbClr val="4e3b30"/>
              </a:solidFill>
              <a:latin typeface="Franklin Gothic Book"/>
            </a:endParaRPr>
          </a:p>
        </p:txBody>
      </p:sp>
      <p:sp>
        <p:nvSpPr>
          <p:cNvPr id="14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49" name="Picture 2" descr=""/>
          <p:cNvPicPr/>
          <p:nvPr/>
        </p:nvPicPr>
        <p:blipFill>
          <a:blip r:embed="rId1"/>
          <a:stretch/>
        </p:blipFill>
        <p:spPr>
          <a:xfrm>
            <a:off x="2309760" y="4191120"/>
            <a:ext cx="4422960" cy="1554120"/>
          </a:xfrm>
          <a:prstGeom prst="rect">
            <a:avLst/>
          </a:prstGeom>
          <a:ln w="0">
            <a:noFill/>
          </a:ln>
        </p:spPr>
      </p:pic>
      <p:sp>
        <p:nvSpPr>
          <p:cNvPr id="150"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C0FC4041-55A9-4F08-ADBE-140C0E12C4E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2" name="Content Placeholder 2"/>
          <p:cNvSpPr/>
          <p:nvPr/>
        </p:nvSpPr>
        <p:spPr>
          <a:xfrm>
            <a:off x="-11160" y="0"/>
            <a:ext cx="91551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ample  - </a:t>
            </a:r>
            <a:r>
              <a:rPr b="0" lang="en-US" sz="1800" spc="-1" strike="noStrike">
                <a:solidFill>
                  <a:srgbClr val="4e3b30"/>
                </a:solidFill>
                <a:latin typeface="Franklin Gothic Book"/>
              </a:rPr>
              <a:t>Querying data dictionary in the ZAGI Retail Company Sales Department Database </a:t>
            </a:r>
            <a:endParaRPr b="0" lang="en-US" sz="1800" spc="-1" strike="noStrike">
              <a:solidFill>
                <a:srgbClr val="000000"/>
              </a:solidFill>
              <a:latin typeface="Arial"/>
            </a:endParaRPr>
          </a:p>
        </p:txBody>
      </p:sp>
      <p:sp>
        <p:nvSpPr>
          <p:cNvPr id="153" name="Content Placeholder 2"/>
          <p:cNvSpPr/>
          <p:nvPr/>
        </p:nvSpPr>
        <p:spPr>
          <a:xfrm>
            <a:off x="1243080" y="498600"/>
            <a:ext cx="64054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Courier New"/>
                <a:ea typeface="Courier New"/>
              </a:rPr>
              <a:t>SELECT table_name, column_name, data_type, data_length</a:t>
            </a:r>
            <a:br>
              <a:rPr sz="1400"/>
            </a:br>
            <a:r>
              <a:rPr b="0" lang="en-US" sz="1400" spc="-1" strike="noStrike">
                <a:solidFill>
                  <a:srgbClr val="4e3b30"/>
                </a:solidFill>
                <a:latin typeface="Courier New"/>
                <a:ea typeface="Courier New"/>
              </a:rPr>
              <a:t>FROM user_tab_columns;</a:t>
            </a:r>
            <a:endParaRPr b="0" lang="en-US" sz="1400" spc="-1" strike="noStrike">
              <a:solidFill>
                <a:srgbClr val="000000"/>
              </a:solidFill>
              <a:latin typeface="Arial"/>
            </a:endParaRPr>
          </a:p>
        </p:txBody>
      </p:sp>
      <p:pic>
        <p:nvPicPr>
          <p:cNvPr id="154" name="Picture 2" descr=""/>
          <p:cNvPicPr/>
          <p:nvPr/>
        </p:nvPicPr>
        <p:blipFill>
          <a:blip r:embed="rId1"/>
          <a:stretch/>
        </p:blipFill>
        <p:spPr>
          <a:xfrm>
            <a:off x="2597040" y="1066680"/>
            <a:ext cx="4308480" cy="5578560"/>
          </a:xfrm>
          <a:prstGeom prst="rect">
            <a:avLst/>
          </a:prstGeom>
          <a:ln w="0">
            <a:noFill/>
          </a:ln>
        </p:spPr>
      </p:pic>
      <p:sp>
        <p:nvSpPr>
          <p:cNvPr id="155"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C7562189-E378-49E4-9277-C2D8DE11690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5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ecuring the database against unauthorized acces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eventing unauthorized access to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ing methods such a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uthenticatio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ccess privileg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ncryption</a:t>
            </a:r>
            <a:endParaRPr b="0" lang="en-US" sz="1800" spc="-1" strike="noStrike">
              <a:solidFill>
                <a:srgbClr val="4e3b30"/>
              </a:solidFill>
              <a:latin typeface="Franklin Gothic Book"/>
            </a:endParaRPr>
          </a:p>
        </p:txBody>
      </p:sp>
      <p:sp>
        <p:nvSpPr>
          <p:cNvPr id="15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9"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782B69A4-6B41-4047-B6A8-42993B13C18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6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uthentica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Login procedure using user ID and password</a:t>
            </a:r>
            <a:endParaRPr b="0" lang="en-US" sz="2000" spc="-1" strike="noStrike">
              <a:solidFill>
                <a:srgbClr val="4e3b30"/>
              </a:solidFill>
              <a:latin typeface="Franklin Gothic Book"/>
            </a:endParaRPr>
          </a:p>
        </p:txBody>
      </p:sp>
      <p:sp>
        <p:nvSpPr>
          <p:cNvPr id="16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3"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59DC73C7-4083-4A54-A064-CDB752E4AEE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6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ccess privileg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ssigned to the database user accoun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termine user’s privileges on database columns, relations and view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clude the following actions:</a:t>
            </a:r>
            <a:r>
              <a:rPr b="0" lang="en-US" sz="2000" spc="-1" strike="noStrike">
                <a:solidFill>
                  <a:srgbClr val="4e3b30"/>
                </a:solidFill>
                <a:latin typeface="Franklin Gothic Book"/>
              </a:rPr>
              <a:t>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ELECT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LTER</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LETE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SERT</a:t>
            </a:r>
            <a:endParaRPr b="0" lang="en-US" sz="1800" spc="-1" strike="noStrike">
              <a:solidFill>
                <a:srgbClr val="4e3b30"/>
              </a:solidFill>
              <a:latin typeface="Franklin Gothic Book"/>
            </a:endParaRPr>
          </a:p>
        </p:txBody>
      </p:sp>
      <p:sp>
        <p:nvSpPr>
          <p:cNvPr id="16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7"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3F4B8B73-6ABE-458E-8A73-69A65E2713F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6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ccess privileg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Authorization matrix </a:t>
            </a:r>
            <a:r>
              <a:rPr b="0" lang="en-US" sz="2000" spc="-1" strike="noStrike">
                <a:solidFill>
                  <a:srgbClr val="4e3b30"/>
                </a:solidFill>
                <a:latin typeface="Franklin Gothic Book"/>
              </a:rPr>
              <a:t>– implements the access privileg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rovided by the DBM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anaged by the DBA</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a:t>
            </a:r>
            <a:endParaRPr b="0" lang="en-US" sz="1800" spc="-1" strike="noStrike">
              <a:solidFill>
                <a:srgbClr val="4e3b30"/>
              </a:solidFill>
              <a:latin typeface="Franklin Gothic Book"/>
            </a:endParaRPr>
          </a:p>
        </p:txBody>
      </p:sp>
      <p:sp>
        <p:nvSpPr>
          <p:cNvPr id="17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71" name="Picture 2" descr=""/>
          <p:cNvPicPr/>
          <p:nvPr/>
        </p:nvPicPr>
        <p:blipFill>
          <a:blip r:embed="rId1"/>
          <a:stretch/>
        </p:blipFill>
        <p:spPr>
          <a:xfrm>
            <a:off x="1828800" y="3581280"/>
            <a:ext cx="5477040" cy="2505240"/>
          </a:xfrm>
          <a:prstGeom prst="rect">
            <a:avLst/>
          </a:prstGeom>
          <a:ln w="0">
            <a:noFill/>
          </a:ln>
        </p:spPr>
      </p:pic>
      <p:sp>
        <p:nvSpPr>
          <p:cNvPr id="172"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02A9214B-10E4-4FD1-A374-ED1379B3660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7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ccess privileg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CL commands </a:t>
            </a:r>
            <a:r>
              <a:rPr b="1" lang="en-US" sz="2000" spc="-1" strike="noStrike">
                <a:solidFill>
                  <a:srgbClr val="4e3b30"/>
                </a:solidFill>
                <a:latin typeface="Franklin Gothic Book"/>
              </a:rPr>
              <a:t>GRANT</a:t>
            </a:r>
            <a:r>
              <a:rPr b="0" lang="en-US" sz="2000" spc="-1" strike="noStrike">
                <a:solidFill>
                  <a:srgbClr val="4e3b30"/>
                </a:solidFill>
                <a:latin typeface="Franklin Gothic Book"/>
              </a:rPr>
              <a:t> and REVOK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Example:</a:t>
            </a:r>
            <a:endParaRPr b="0" lang="en-US" sz="2000" spc="-1" strike="noStrike">
              <a:solidFill>
                <a:srgbClr val="4e3b30"/>
              </a:solidFill>
              <a:latin typeface="Franklin Gothic Book"/>
            </a:endParaRPr>
          </a:p>
        </p:txBody>
      </p:sp>
      <p:sp>
        <p:nvSpPr>
          <p:cNvPr id="17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6" name="Content Placeholder 2"/>
          <p:cNvSpPr/>
          <p:nvPr/>
        </p:nvSpPr>
        <p:spPr>
          <a:xfrm>
            <a:off x="1247760" y="3124080"/>
            <a:ext cx="5334120" cy="60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GRANT SELECT, UPDATE ON vendor TO alic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REVOKE UPDATE ON vendor FROM alice;</a:t>
            </a:r>
            <a:endParaRPr b="0" lang="en-US" sz="1600" spc="-1" strike="noStrike">
              <a:solidFill>
                <a:srgbClr val="000000"/>
              </a:solidFill>
              <a:latin typeface="Arial"/>
            </a:endParaRPr>
          </a:p>
        </p:txBody>
      </p:sp>
      <p:sp>
        <p:nvSpPr>
          <p:cNvPr id="177"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06480E17-9C69-4745-A1AC-559E0150045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7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ccess privileg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Role-based access control</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Groups contain multiple user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ccess privileges assigned to the group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a:t>
            </a:r>
            <a:endParaRPr b="0" lang="en-US" sz="1800" spc="-1" strike="noStrike">
              <a:solidFill>
                <a:srgbClr val="4e3b30"/>
              </a:solidFill>
              <a:latin typeface="Franklin Gothic Book"/>
            </a:endParaRPr>
          </a:p>
        </p:txBody>
      </p:sp>
      <p:sp>
        <p:nvSpPr>
          <p:cNvPr id="18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1" name="Content Placeholder 2"/>
          <p:cNvSpPr/>
          <p:nvPr/>
        </p:nvSpPr>
        <p:spPr>
          <a:xfrm>
            <a:off x="1247760" y="3733920"/>
            <a:ext cx="533412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ROLE accounta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GRANT SELECT ON payroll TO accounta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GRANT accountant TO brian;</a:t>
            </a:r>
            <a:endParaRPr b="0" lang="en-US" sz="1600" spc="-1" strike="noStrike">
              <a:solidFill>
                <a:srgbClr val="000000"/>
              </a:solidFill>
              <a:latin typeface="Arial"/>
            </a:endParaRPr>
          </a:p>
        </p:txBody>
      </p:sp>
      <p:sp>
        <p:nvSpPr>
          <p:cNvPr id="182"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666BE616-09D8-42E9-BB00-0F75F5A35F4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8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cryp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ncryption key </a:t>
            </a:r>
            <a:r>
              <a:rPr b="0" lang="en-US" sz="2000" spc="-1" strike="noStrike">
                <a:solidFill>
                  <a:srgbClr val="4e3b30"/>
                </a:solidFill>
                <a:latin typeface="Franklin Gothic Book"/>
              </a:rPr>
              <a:t>- information scrambling algorithm</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ecryption key </a:t>
            </a:r>
            <a:r>
              <a:rPr b="0" lang="en-US" sz="2000" spc="-1" strike="noStrike">
                <a:solidFill>
                  <a:srgbClr val="4e3b30"/>
                </a:solidFill>
                <a:latin typeface="Franklin Gothic Book"/>
              </a:rPr>
              <a:t>- reverts the information to its original state</a:t>
            </a:r>
            <a:endParaRPr b="0" lang="en-US" sz="2000" spc="-1" strike="noStrike">
              <a:solidFill>
                <a:srgbClr val="4e3b30"/>
              </a:solidFill>
              <a:latin typeface="Franklin Gothic Book"/>
            </a:endParaRPr>
          </a:p>
        </p:txBody>
      </p:sp>
      <p:sp>
        <p:nvSpPr>
          <p:cNvPr id="18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6"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5663D057-9E12-46D6-BA2C-79F3DAA02CA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BMS software is used for:</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reation of databa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nipulation of the data in the databases (i.e. insertion, storage, retrieval, update and deletion)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intenance of databa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reating front-end applications (in some DBMS packages)</a:t>
            </a: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1552DC4F-2F83-4C07-9B61-585D716E8A2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8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roviding Database Backup and Recov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Backup</a:t>
            </a:r>
            <a:r>
              <a:rPr b="0" lang="en-US" sz="2000" spc="-1" strike="noStrike">
                <a:solidFill>
                  <a:srgbClr val="4e3b30"/>
                </a:solidFill>
                <a:latin typeface="Franklin Gothic Book"/>
              </a:rPr>
              <a:t> - saving additional physical copies of the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Recovery</a:t>
            </a:r>
            <a:r>
              <a:rPr b="0" lang="en-US" sz="2000" spc="-1" strike="noStrike">
                <a:solidFill>
                  <a:srgbClr val="4e3b30"/>
                </a:solidFill>
                <a:latin typeface="Franklin Gothic Book"/>
              </a:rPr>
              <a:t> - recovering the content of the database after a failure</a:t>
            </a:r>
            <a:endParaRPr b="0" lang="en-US" sz="2000" spc="-1" strike="noStrike">
              <a:solidFill>
                <a:srgbClr val="4e3b30"/>
              </a:solidFill>
              <a:latin typeface="Franklin Gothic Book"/>
            </a:endParaRPr>
          </a:p>
        </p:txBody>
      </p:sp>
      <p:sp>
        <p:nvSpPr>
          <p:cNvPr id="18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0"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9814BAF9-6B89-491A-ACA5-5AE4074C3B0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9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roviding Database Backup and Recov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Recovery</a:t>
            </a:r>
            <a:r>
              <a:rPr b="0" lang="en-US" sz="2000" spc="-1" strike="noStrike">
                <a:solidFill>
                  <a:srgbClr val="4e3b30"/>
                </a:solidFill>
                <a:latin typeface="Franklin Gothic Book"/>
              </a:rPr>
              <a:t> </a:t>
            </a:r>
            <a:r>
              <a:rPr b="1" lang="en-US" sz="2000" spc="-1" strike="noStrike">
                <a:solidFill>
                  <a:srgbClr val="4e3b30"/>
                </a:solidFill>
                <a:latin typeface="Franklin Gothic Book"/>
              </a:rPr>
              <a:t>log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Logs database updat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nsures against loss of update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heckpoin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art of a recovery log</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dicates a point when updates are written on the disk</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9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4"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3A3EBF27-407F-47D4-A816-920D6A3BBE4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9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roviding Database Backup and Recov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BMS actions in the event of a failure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olling back to the checkpoint stat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edoing the updates in the recovery log since the last checkpoint</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CL command </a:t>
            </a:r>
            <a:r>
              <a:rPr b="1" lang="en-US" sz="2000" spc="-1" strike="noStrike">
                <a:solidFill>
                  <a:srgbClr val="4e3b30"/>
                </a:solidFill>
                <a:latin typeface="Franklin Gothic Book"/>
              </a:rPr>
              <a:t>COMMI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auses all the updates to be recorded on the disk</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CL command </a:t>
            </a:r>
            <a:r>
              <a:rPr b="1" lang="en-US" sz="2000" spc="-1" strike="noStrike">
                <a:solidFill>
                  <a:srgbClr val="4e3b30"/>
                </a:solidFill>
                <a:latin typeface="Franklin Gothic Book"/>
              </a:rPr>
              <a:t>ROLLBACK</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olls back all the updates since the last COMMI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8"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ADAC4736-24A8-4089-BDE0-D572EE9C1B9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0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roviding Database Backup and Recov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omplete mirrored backup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nsures against complete database destruction</a:t>
            </a:r>
            <a:endParaRPr b="0" lang="en-US" sz="1800" spc="-1" strike="noStrike">
              <a:solidFill>
                <a:srgbClr val="4e3b30"/>
              </a:solidFill>
              <a:latin typeface="Franklin Gothic Book"/>
            </a:endParaRPr>
          </a:p>
        </p:txBody>
      </p:sp>
      <p:sp>
        <p:nvSpPr>
          <p:cNvPr id="20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2"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C9E764FB-4EA5-4BCD-A565-B5213EED910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0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suring Database Integr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eventing insertion, modification, or deletion actions that result in invalid, corrupt, or low-quality data in the databa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base integrity can be compromised through events such a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nauthorized malicious data updat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 failur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ccidental misuse</a:t>
            </a:r>
            <a:endParaRPr b="0" lang="en-US" sz="1800" spc="-1" strike="noStrike">
              <a:solidFill>
                <a:srgbClr val="4e3b30"/>
              </a:solidFill>
              <a:latin typeface="Franklin Gothic Book"/>
            </a:endParaRPr>
          </a:p>
        </p:txBody>
      </p:sp>
      <p:sp>
        <p:nvSpPr>
          <p:cNvPr id="20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6"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15CC1AB6-2C47-421C-B4BE-7A10E699A23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0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ptimizing database performanc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eeks to minimize the response time for database queri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volves actions such a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dexing</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normalizatio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View materializatio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Query optimizatio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20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0"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3F46419B-358B-4B07-972E-EE20DD53977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1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Query optimiza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ining multiple ways of executing the same query and choosing the fastest op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Query optimizer</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BMS featur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dentifies the possible ways to execute the query (</a:t>
            </a:r>
            <a:r>
              <a:rPr b="0" i="1" lang="en-US" sz="1800" spc="-1" strike="noStrike">
                <a:solidFill>
                  <a:srgbClr val="4e3b30"/>
                </a:solidFill>
                <a:latin typeface="Franklin Gothic Book"/>
              </a:rPr>
              <a:t>query plans</a:t>
            </a:r>
            <a:r>
              <a:rPr b="0" lang="en-US" sz="1800" spc="-1" strike="noStrike">
                <a:solidFill>
                  <a:srgbClr val="4e3b30"/>
                </a:solidFill>
                <a:latin typeface="Franklin Gothic Book"/>
              </a:rPr>
              <a: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hooses the fastest </a:t>
            </a:r>
            <a:r>
              <a:rPr b="0" i="1" lang="en-US" sz="1800" spc="-1" strike="noStrike">
                <a:solidFill>
                  <a:srgbClr val="4e3b30"/>
                </a:solidFill>
                <a:latin typeface="Franklin Gothic Book"/>
              </a:rPr>
              <a:t>query plan</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Query cos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time length of execution</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Query hin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verrides the default behavior of the query optimizer</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21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4"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292952B9-5DF5-4648-9300-5430BF7DF33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1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veloping and implementing database policies and standard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olicies and standards for database developmen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g. naming convention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olicies and standards for database u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g. business rule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olicies and standards for database management and administration</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g. policy for assigning administration tasks</a:t>
            </a:r>
            <a:endParaRPr b="0" lang="en-US" sz="1800" spc="-1" strike="noStrike">
              <a:solidFill>
                <a:srgbClr val="4e3b30"/>
              </a:solidFill>
              <a:latin typeface="Franklin Gothic Book"/>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2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8"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563DFB74-2715-4B6F-A477-1C6410C05F9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22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veloping and implementing database policies and standard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mmon purpose for database policies and standards is to reflect and support business processes and business logic</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22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2"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D6423C57-E56C-4A62-BEF7-FDA3AAF26F1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1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C1140E9C-496B-42EF-9B1D-72CA410C009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17" name="Picture 2" descr=""/>
          <p:cNvPicPr/>
          <p:nvPr/>
        </p:nvPicPr>
        <p:blipFill>
          <a:blip r:embed="rId1"/>
          <a:stretch/>
        </p:blipFill>
        <p:spPr>
          <a:xfrm>
            <a:off x="2057400" y="1676520"/>
            <a:ext cx="49608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1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definition componen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reate the components of the databa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g. database tables, referential integrity constraints connecting the created tables. </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s DDL (Data Definition Language) SQL commands</a:t>
            </a:r>
            <a:endParaRPr b="0" lang="en-US" sz="2000" spc="-1" strike="noStrike">
              <a:solidFill>
                <a:srgbClr val="4e3b30"/>
              </a:solidFill>
              <a:latin typeface="Franklin Gothic Book"/>
            </a:endParaRPr>
          </a:p>
        </p:txBody>
      </p:sp>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D49EE779-7658-49CD-B353-D641D04DA6A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2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manipulation componen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insert, read, update, and delete information in a databa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s DML (Data Manipulation Language) SQL command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Single-user system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manipulation component used by one user at a time</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Multiuser system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manipulation component used by multiple users at the same time</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6B8256B7-2360-42DE-85C7-0459861D7CF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2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administration componen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technical, administrative, and maintenance tasks of database system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CL (Data Control Language) and TCL (Transaction Control Language) SQL commands are used during these task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2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A0925957-90C1-4EA9-980B-60171A1EB3A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BMS COMPONENTS</a:t>
            </a:r>
            <a:endParaRPr b="0" lang="en-US" sz="3200" spc="-1" strike="noStrike">
              <a:solidFill>
                <a:srgbClr val="4e3b30"/>
              </a:solidFill>
              <a:latin typeface="Franklin Gothic Medium"/>
            </a:endParaRPr>
          </a:p>
        </p:txBody>
      </p:sp>
      <p:sp>
        <p:nvSpPr>
          <p:cNvPr id="13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pplication development componen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develop front-end applications</a:t>
            </a:r>
            <a:endParaRPr b="0" lang="en-US" sz="2000" spc="-1" strike="noStrike">
              <a:solidFill>
                <a:srgbClr val="4e3b30"/>
              </a:solidFill>
              <a:latin typeface="Franklin Gothic Book"/>
            </a:endParaRPr>
          </a:p>
        </p:txBody>
      </p:sp>
      <p:sp>
        <p:nvSpPr>
          <p:cNvPr id="13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4CBC15F9-A756-4017-A904-E416420F8ED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3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administration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compasses the activities that are necessary for the proper functioning of a deployed database system, such a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onitoring and maintaining the database system</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ecuring the database against unauthorized acces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roviding database backup and recovery</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nsuring database integrity</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ptimizing database performanc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veloping and implementing database policies and standards</a:t>
            </a:r>
            <a:endParaRPr b="0" lang="en-US" sz="1800" spc="-1" strike="noStrike">
              <a:solidFill>
                <a:srgbClr val="4e3b30"/>
              </a:solidFill>
              <a:latin typeface="Franklin Gothic Book"/>
            </a:endParaRPr>
          </a:p>
        </p:txBody>
      </p:sp>
      <p:sp>
        <p:nvSpPr>
          <p:cNvPr id="13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EBE7AFFB-CF14-47B8-B252-D8F5FA4FC32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ADMINISTRATION</a:t>
            </a:r>
            <a:endParaRPr b="0" lang="en-US" sz="3200" spc="-1" strike="noStrike">
              <a:solidFill>
                <a:srgbClr val="4e3b30"/>
              </a:solidFill>
              <a:latin typeface="Franklin Gothic Medium"/>
            </a:endParaRPr>
          </a:p>
        </p:txBody>
      </p:sp>
      <p:sp>
        <p:nvSpPr>
          <p:cNvPr id="13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onitoring and maintaining the database system</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ample activiti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ecognizing instances when maintenance activities are needed</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bserving the usage of tabl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anaging and upgrading the database software and hardware resources</a:t>
            </a:r>
            <a:endParaRPr b="0" lang="en-US" sz="1800" spc="-1" strike="noStrike">
              <a:solidFill>
                <a:srgbClr val="4e3b30"/>
              </a:solidFill>
              <a:latin typeface="Franklin Gothic Book"/>
            </a:endParaRPr>
          </a:p>
        </p:txBody>
      </p:sp>
      <p:sp>
        <p:nvSpPr>
          <p:cNvPr id="14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0 – Slide  </a:t>
            </a:r>
            <a:fld id="{0BEDEF66-6013-437C-B308-CC11C0A27B4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user</cp:lastModifiedBy>
  <dcterms:modified xsi:type="dcterms:W3CDTF">2013-01-26T20:27:38Z</dcterms:modified>
  <cp:revision>77</cp:revision>
  <dc:subject/>
  <dc:title>CHAPTER 1 - Introduction</dc:title>
</cp:coreProperties>
</file>