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EA53-C1EE-4F81-9065-6B071C5DE9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93-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6683-5B83-404E-9C34-74E9CD7CDA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2B70-3214-4C0F-BB79-9323014F7E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A41A-AA0E-404E-BF39-7E77B59BF8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itial set of functional dependencies in the AD CAMPAIGN MIX is discussed in detail on Pages 98-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1CBD-2624-4612-B182-3A855708F0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9010-6B86-4ADE-AB5C-19975ADD2F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010D-FAA5-4FA9-9D27-1943C29073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96C4-2FD6-4B77-9963-35B0397ADF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3BA8-31A7-45E8-A37C-60BB56A52F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108F-5C1D-437E-873B-AEC77ABC40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AE01-BF61-41BC-BF86-EA720F5809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44F6-A535-4DED-B512-C05D89AFFC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C5F9-83C3-4144-AA15-8E73933E23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99-1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6FCE-8A9F-4016-AADD-F07759D1B5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99-1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672D-1A1B-48DA-BA0C-1E4A5D4835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99-1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7E3C-4E44-42AB-B1D1-A05A57C483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99-1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DF91-68F7-4765-B33F-903FCEF8E4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2E2E-8D47-4A50-9871-E1C5634EBB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DE37-2163-4105-BB29-975C1C8C98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10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0EE8-7540-40DC-9594-CAF486536A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4B07-42AE-48A3-9FEF-D32BA894D8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10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FBB3-11F7-43DB-B0BC-474F6243F9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9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5BCC-BE46-4B5C-BD33-FA0828879B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9B7C-64A4-4463-9BBB-138981CE32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10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1EEB-D069-4AF1-9D00-FBE411ADE2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101-1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956E-D2EC-4E95-8B2B-D2F1C40DE5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102-1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D28B-5790-43A2-AD16-E5B740C9F1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102-1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9550-A0AF-482C-A571-A07EDB1BA8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251E-F13E-4F23-8A5A-CDC8F596EA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2090-CB50-475A-B710-06E9E2E438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955F-1469-48E7-B3D7-39D5FED6ED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8A52-C5E4-4CD2-9CAE-33EA36E0F2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izing to 1NF is not a part of the normalization process of relational datab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izing to 1NF is done only when a non-relational table is being converted to a rel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4FC0-5983-493A-BD52-E8D4A95337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9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4057-6E13-4483-AA1D-0753C10B56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105-1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8945-C4FD-44F2-87BA-E7422CBAF4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1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4219-949A-4309-BD81-79F13135B1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106-1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BC7C-3B66-4C40-B614-D5B3577F9C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relational table, the process of normalization starts by examining if a relational table is in 2N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7A91-C31E-4CE1-BBD3-8C0606765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5600-4A36-42B1-B937-87F285F213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107-10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D036-2983-4784-B5F9-6F18DE8AE4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relational table that is in 2NF, the process of normalization continues by examining if a relational table is in 3N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2062-18FE-4C3B-87C1-C9D9DA1A2C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9E57-F25B-487A-AFE0-45D1387079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108-10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C35B-86C9-47D2-A88A-939E09EB4B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108-10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EB1E-D1CC-4290-A635-86A84CCB21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9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D707-04D9-493E-8BFA-3C9CB07684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109-1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E060-D9C0-419A-B0A7-AC1E49BD47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109-1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E237-8327-4620-82B2-70AA9F9798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109-1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3E4A-8EF3-4B78-BE1C-3ED9878AF2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112-11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22A9-8412-4482-A6C7-EAC0A157D8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112-11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24D7-858D-4012-B2B9-7CE473245F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112-11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5F1C-BC7C-4992-83C0-A6E86FE66C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112-11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6EAD-2D06-44FA-8E19-1B16C5815C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35E3-C438-40A3-9D5B-A899994462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860E-54DE-4B56-858D-DE80022A6A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93-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A9B6-4252-4935-970A-7CA89E9A07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93-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41D5-BB9D-4480-BA0C-7D06A352B7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7DA95-D4C5-4508-9CA9-F171978CB7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B18AF-96EE-4768-9318-E01EA7B764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CF88D-CB9F-40F8-8709-FFD57B1A44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A1F34-0583-480E-9865-FA0C13E0D5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C5F4B-A7F2-4049-BA45-0F23D18266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219C5-3976-44E6-AC36-F1ED2BBA07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1984A-9B13-4A55-8171-7F626AE20A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1298E-2D27-4002-8626-71F52ECB4B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15ECF-766D-49BA-9608-F5E29CD8A2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625A3-2493-4E7A-A735-8D38333795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7DF57-8849-4345-AA83-F19CAB7DAA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DE45F-CE9A-4C34-AFA4-DCC0A2726C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601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5" name="Straight Connector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Straight Connector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9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3809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2"/>
          </p:nvPr>
        </p:nvSpPr>
        <p:spPr>
          <a:xfrm>
            <a:off x="7924320" y="662904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16D585ED-9504-4628-A113-33CBEB892F92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Footer Placeholder 3"/>
          <p:cNvSpPr/>
          <p:nvPr/>
        </p:nvSpPr>
        <p:spPr>
          <a:xfrm>
            <a:off x="3657600" y="6629400"/>
            <a:ext cx="259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anklin Gothic Book"/>
              </a:rPr>
              <a:t>Copyright (c) 2014 Pearson Education, Inc</a:t>
            </a: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Straight Connector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4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Straight Connector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7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Footer Placeholder 3"/>
          <p:cNvSpPr/>
          <p:nvPr/>
        </p:nvSpPr>
        <p:spPr>
          <a:xfrm>
            <a:off x="3657600" y="6629400"/>
            <a:ext cx="259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anklin Gothic Book"/>
              </a:rPr>
              <a:t>Copyright (c) 2014 Pearson Education, Inc</a:t>
            </a: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Straight Connector 14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61" name="Straight Connector 14" descr=""/>
            <p:cNvPicPr/>
            <p:nvPr/>
          </p:nvPicPr>
          <p:blipFill>
            <a:blip r:embed="rId6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601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225360" y="4853160"/>
            <a:ext cx="8613720" cy="16030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3329"/>
                </a:solidFill>
                <a:latin typeface="Franklin Gothic Book"/>
              </a:rPr>
              <a:t>Database Systems -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3329"/>
                </a:solidFill>
                <a:latin typeface="Franklin Gothic Book"/>
              </a:rPr>
              <a:t>Introduction to Databases and Data Warehous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ontent Placeholder 2"/>
          <p:cNvSpPr/>
          <p:nvPr/>
        </p:nvSpPr>
        <p:spPr>
          <a:xfrm>
            <a:off x="-11160" y="0"/>
            <a:ext cx="91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Examples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of update anomalies in the relation AD CAMPAIGN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6360" y="1600200"/>
            <a:ext cx="9052200" cy="5006880"/>
          </a:xfrm>
          <a:prstGeom prst="rect">
            <a:avLst/>
          </a:prstGeom>
          <a:ln w="0">
            <a:noFill/>
          </a:ln>
        </p:spPr>
      </p:pic>
      <p:sp>
        <p:nvSpPr>
          <p:cNvPr id="148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DF7C1314-5027-469A-8F62-2ACC4326DA4F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FUNCTIONAL DEPENDENC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553760"/>
            <a:ext cx="86868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Functional dependency -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occurs when the value of one (or more) column(s) in each record of a relation uniquely  determines the value of another column in that same record of the rela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For exampl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A → B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ClientID → ClientNam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B4B5BD6F-EEF1-4276-AB71-1C37C92A2143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FUNCTIONAL DEPENDENC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553760"/>
            <a:ext cx="86868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wo functional dependency notations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ClientID → ClientNam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B6A2893B-4240-401D-9CF4-CC22998E1BF1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938240" y="3886200"/>
            <a:ext cx="53150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FUNCTIONAL DEPENDENC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553760"/>
            <a:ext cx="86868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xampl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B158709B-7F11-44B4-A15C-F7A0A0B25E6B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86800" cy="39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FUNCTIONAL DEPENDENC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553760"/>
            <a:ext cx="86868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Streamlining functional dependencies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Not all functional dependencies need to be depicted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The following types of functional dependencies can be omitted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Trivial functional dependencies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Augmented functional dependencies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Equivalent functional dependencies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00629FDB-FEA7-4D0F-9E60-4F5B3B9CA8C5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FUNCTIONAL DEPENDENC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553760"/>
            <a:ext cx="86868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Trivial functional dependency - </a:t>
            </a:r>
            <a:r>
              <a:rPr b="0" i="1" lang="en-US" sz="2400" spc="-1" strike="noStrike">
                <a:solidFill>
                  <a:srgbClr val="4e3b30"/>
                </a:solidFill>
                <a:latin typeface="Franklin Gothic Book"/>
              </a:rPr>
              <a:t>occurs when an attribute (or a set of attributes) functionally determines itself or its subset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For example: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A → A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A, B → A, B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A, B → A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CampaignMgrID, CampaignMgrName → CampaignMgrName</a:t>
            </a:r>
            <a:br>
              <a:rPr sz="2400"/>
            </a:b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Trivial functional dependencies are not  depicted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ABD9E4C3-2DA1-4CE1-BB90-CAAA75A4A3C6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FUNCTIONAL DEPENDENC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554120"/>
            <a:ext cx="868680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Augmented functional dependency - </a:t>
            </a:r>
            <a:r>
              <a:rPr b="0" i="1" lang="en-US" sz="2400" spc="-1" strike="noStrike">
                <a:solidFill>
                  <a:srgbClr val="4e3b30"/>
                </a:solidFill>
                <a:latin typeface="Franklin Gothic Book"/>
              </a:rPr>
              <a:t>functional dependency that contains an existing functional dependenc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For example if a functional dependency :</a:t>
            </a:r>
            <a:br>
              <a:rPr sz="20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A → B</a:t>
            </a:r>
            <a:br>
              <a:rPr sz="24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exists in a relation, then :</a:t>
            </a:r>
            <a:br>
              <a:rPr sz="20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A, C → B</a:t>
            </a:r>
            <a:br>
              <a:rPr sz="24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is an </a:t>
            </a: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augmented functional dependency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Does not add new information to what is already described by the existing functional dependency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It can be omitted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3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B4E35D7C-16A8-4618-AD5E-2794A87C0EC5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FUNCTIONAL DEPENDENC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6320" y="1554120"/>
            <a:ext cx="906768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AD CAMPAIGN MIX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xample</a:t>
            </a:r>
            <a:br>
              <a:rPr sz="20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13160" indent="-274320">
              <a:lnSpc>
                <a:spcPts val="1998"/>
              </a:lnSpc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Functional dependencies (Set 3):</a:t>
            </a:r>
            <a:br>
              <a:rPr sz="2000"/>
            </a:br>
            <a:br>
              <a:rPr sz="2000"/>
            </a:b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AdCampaignID  → AdCampaignName, StartDate, Duration, </a:t>
            </a:r>
            <a:br>
              <a:rPr sz="2400"/>
            </a:b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      CampaignMgrID, CampaignMgrName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4e3b30"/>
                </a:solidFill>
                <a:latin typeface="Aparajita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13160" indent="-274320">
              <a:lnSpc>
                <a:spcPts val="1998"/>
              </a:lnSpc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Franklin Gothic Book"/>
              </a:rPr>
              <a:t>Augmented functional dependencies (in Set 5)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due to Set 3:</a:t>
            </a:r>
            <a:br>
              <a:rPr sz="2000"/>
            </a:br>
            <a:br>
              <a:rPr sz="2000"/>
            </a:b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AdCampaignID, ModeID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 → AdCampaignName, StartDate, Duration, </a:t>
            </a:r>
            <a:br>
              <a:rPr sz="2400"/>
            </a:b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       CampaignMgrID, CampaignMgrNam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13160" indent="-274320">
              <a:lnSpc>
                <a:spcPts val="1998"/>
              </a:lnSpc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13160" indent="-274320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can be omitted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4711848D-12CF-4C98-B812-A37276E32FD3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FUNCTIONAL DEPENDENC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6320" y="1554120"/>
            <a:ext cx="906768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AD CAMPAIGN MIX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xample</a:t>
            </a:r>
            <a:br>
              <a:rPr sz="20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ts val="1998"/>
              </a:lnSpc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Functional dependencies (Set 2)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ModeID → Media, Range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4e3b30"/>
                </a:solidFill>
                <a:latin typeface="Aparajita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ts val="1998"/>
              </a:lnSpc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Franklin Gothic Book"/>
              </a:rPr>
              <a:t>Augmented functional dependencies (in Set 5)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due to Set 2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AdCampaignID, ModeID → Media, Rang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ts val="1998"/>
              </a:lnSpc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can be omitted</a:t>
            </a: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80606515-5E94-4351-AE3A-BEC2A00A513B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FUNCTIONAL DEPENDENC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Equivalent functional dependency - </a:t>
            </a:r>
            <a:r>
              <a:rPr b="0" i="1" lang="en-US" sz="2400" spc="-1" strike="noStrike">
                <a:solidFill>
                  <a:srgbClr val="4e3b30"/>
                </a:solidFill>
                <a:latin typeface="Franklin Gothic Book"/>
              </a:rPr>
              <a:t>occurs when two columns (or sets of columns) that functionally determine each other determine other column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If one of the equivalent functional dependencies is depicted, the other equivalent functional dependency can be omitted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For example if functional dependencies :</a:t>
            </a:r>
            <a:br>
              <a:rPr sz="20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A → B</a:t>
            </a:r>
            <a:br>
              <a:rPr sz="2400"/>
            </a:b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B → A</a:t>
            </a:r>
            <a:br>
              <a:rPr sz="24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exists in a relation, then :</a:t>
            </a:r>
            <a:br>
              <a:rPr sz="20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A → B</a:t>
            </a:r>
            <a:br>
              <a:rPr sz="2400"/>
            </a:b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B → A</a:t>
            </a:r>
            <a:br>
              <a:rPr sz="24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are equivalent functional dependencies, and:</a:t>
            </a:r>
            <a:br>
              <a:rPr sz="20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A → B, X</a:t>
            </a:r>
            <a:br>
              <a:rPr sz="2400"/>
            </a:b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B → A, X</a:t>
            </a:r>
            <a:br>
              <a:rPr sz="24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are equivalent functional dependencies, and:</a:t>
            </a:r>
            <a:br>
              <a:rPr sz="20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Y,A → B, X</a:t>
            </a:r>
            <a:br>
              <a:rPr sz="2400"/>
            </a:b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Y,B → A, X</a:t>
            </a:r>
            <a:br>
              <a:rPr sz="24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are equivalent functional dependencie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8E9085E9-DBAF-4145-AC53-960ED787F1D0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UPDATE OPERATION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Insert opera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Used for entering new data in the rela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Delete opera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Used for removing data from the rela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Modify opera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Used for changing the existing data in the rela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FDA51D0A-34FF-45AB-AC31-A3A00038B7B3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FUNCTIONAL DEPENDENC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6320" y="1554120"/>
            <a:ext cx="906768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AD CAMPAIGN MIX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xample</a:t>
            </a:r>
            <a:br>
              <a:rPr sz="20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ts val="1998"/>
              </a:lnSpc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Because the functional dependency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AdCampaignID → AdCampaignName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and</a:t>
            </a:r>
            <a:r>
              <a:rPr b="0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the functional dependency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 AdCampaignName → AdCampaignID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are </a:t>
            </a:r>
            <a:r>
              <a:rPr b="0" lang="en-US" sz="2000" spc="-1" strike="noStrike">
                <a:solidFill>
                  <a:srgbClr val="ff0000"/>
                </a:solidFill>
                <a:latin typeface="Franklin Gothic Book"/>
              </a:rPr>
              <a:t>equivalent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,  </a:t>
            </a:r>
            <a:br>
              <a:rPr sz="20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Set 3 and Set 4 are </a:t>
            </a: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equivalent sets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and </a:t>
            </a:r>
            <a:br>
              <a:rPr sz="20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Set 5 and Set 6 are also </a:t>
            </a: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equivalent sets</a:t>
            </a:r>
            <a:br>
              <a:rPr sz="2000"/>
            </a:b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Set 4 can be omitted from depiction because it is equivalent to Set 3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Set 6 can be omitted from depiction because it is equivalent to Set 5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67D106D6-A2F0-47E9-A50E-6C79A6EDDD90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FUNCTIONAL DEPENDENC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553760"/>
            <a:ext cx="86868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xample - streamlining functional dependencies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54998B33-E74C-4961-B561-68CD36C8C399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292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FUNCTIONAL DEPENDENC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553760"/>
            <a:ext cx="86868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xample - streamlining functional dependencies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33172723-1529-486F-82A6-A4D6BF4EFE2B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318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FUNCTIONAL DEPENDENC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553760"/>
            <a:ext cx="86868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xample – streamlined functional dependencies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9CB5CE23-516A-40BD-863C-112562A9FD0F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3217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FUNCTIONAL DEPENDENC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560" y="1553760"/>
            <a:ext cx="88390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xample – streamlined functional dependencies (another notation)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ABDD8E41-554F-44E3-A692-8F7D38BA6910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46080" y="2749680"/>
            <a:ext cx="905184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FUNCTIONAL DEPENDENC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554120"/>
            <a:ext cx="868680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Types of functional dependenci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The functional dependencies that are used as a basis for the typical normalization process can be classified in one of the three categories: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Partial functional dependency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Full key functional dependency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Transitive functional dependency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88F0A263-8A0E-409B-BF63-DDD0DAC023DC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FUNCTIONAL DEPENDENC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554120"/>
            <a:ext cx="868680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Partial functional dependency - </a:t>
            </a:r>
            <a:r>
              <a:rPr b="0" i="1" lang="en-US" sz="2400" spc="-1" strike="noStrike">
                <a:solidFill>
                  <a:srgbClr val="4e3b30"/>
                </a:solidFill>
                <a:latin typeface="Franklin Gothic Book"/>
              </a:rPr>
              <a:t>occurs when a column of a relation is functionally dependent on a component of a composite primary ke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Only composite primary keys have separate components, while single-column primary keys do not have separate component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Hence, partial functional dependency can occur only in cases when a relation has a composite primary key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7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4370BE2C-A5C5-48DF-8630-C3CB749B76D9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FUNCTIONAL DEPENDENC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6320" y="1554120"/>
            <a:ext cx="906768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Partial functional dependencies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(in </a:t>
            </a: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AD CAMPAIGN MIX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example)</a:t>
            </a:r>
            <a:br>
              <a:rPr sz="20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457200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AdCampaignID → AdCampaignName, StartDate, Duration, </a:t>
            </a:r>
            <a:br>
              <a:rPr sz="2400"/>
            </a:b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     CampaignMgrID, CampaignMgrName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ModeID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→ Media, Range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B933C3B0-0C39-4650-A13F-DB41817893BA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FUNCTIONAL DEPENDENC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554120"/>
            <a:ext cx="868680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Full key functional dependency - </a:t>
            </a:r>
            <a:r>
              <a:rPr b="0" i="1" lang="en-US" sz="2400" spc="-1" strike="noStrike">
                <a:solidFill>
                  <a:srgbClr val="4e3b30"/>
                </a:solidFill>
                <a:latin typeface="Franklin Gothic Book"/>
              </a:rPr>
              <a:t>occurs when a primary key functionally determines the column of a relation and no separate component of the primary key partially determines the same colum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If a relation has a single component (non-composite) primary key, the primary key fully functionally determines all the other columns of a rela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If a relation has a composite key, and portions of the key partially determine columns of a relation, then the primary key does not fully functionally determine the partially determined column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16CF66A3-E489-4488-BCB9-6D2EB112DE87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FUNCTIONAL DEPENDENC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6320" y="1554120"/>
            <a:ext cx="906768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Full key functional dependency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(in </a:t>
            </a: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AD CAMPAIGN MIX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example)</a:t>
            </a:r>
            <a:br>
              <a:rPr sz="20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457200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AdCampaignID, ModeID → BudgetPctg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884EEAE2-CF10-4A25-84EB-5F5BEE6DA523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UPDATE OPERATION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xample of an insert opera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3FCB871E-D5F5-4C4E-AFBE-39BE073ECAC3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2743200" y="2011320"/>
            <a:ext cx="4257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FUNCTIONAL DEPENDENC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554120"/>
            <a:ext cx="868680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Transitive functional dependency - </a:t>
            </a:r>
            <a:r>
              <a:rPr b="0" i="1" lang="en-US" sz="2400" spc="-1" strike="noStrike">
                <a:solidFill>
                  <a:srgbClr val="4e3b30"/>
                </a:solidFill>
                <a:latin typeface="Franklin Gothic Book"/>
              </a:rPr>
              <a:t>occurs when nonkey columns functionally determine other nonkey columns of a rela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Nonkey column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is a column in a relation that is neither a primary nor a candidate key column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C54EE3C1-2A66-44F3-AA15-AAB305F550FD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FUNCTIONAL DEPENDENC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76320" y="1554120"/>
            <a:ext cx="906768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ransitive functional dependency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(in </a:t>
            </a: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AD CAMPAIGN MIX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example)</a:t>
            </a:r>
            <a:br>
              <a:rPr sz="20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457200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CampaignMgrID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 → CampaignMgrName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E44FCD55-D411-4079-B25D-0CA548B6E0EC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FUNCTIONAL DEPENDENC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560" y="1553760"/>
            <a:ext cx="88390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Functional dependencies in the relation AD CAMPAIGN MIX (types indicated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1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33934549-551B-42C4-B727-4A06D5BB6499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46080" y="2895480"/>
            <a:ext cx="905184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Content Placeholder 2"/>
          <p:cNvSpPr/>
          <p:nvPr/>
        </p:nvSpPr>
        <p:spPr>
          <a:xfrm>
            <a:off x="-11160" y="0"/>
            <a:ext cx="91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Example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relation RECRU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46080" y="1600200"/>
            <a:ext cx="9051840" cy="3124080"/>
          </a:xfrm>
          <a:prstGeom prst="rect">
            <a:avLst/>
          </a:prstGeom>
          <a:ln w="0">
            <a:noFill/>
          </a:ln>
        </p:spPr>
      </p:pic>
      <p:sp>
        <p:nvSpPr>
          <p:cNvPr id="247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5B036E57-71A5-445C-A4E8-CBC09B01F3E3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Content Placeholder 2"/>
          <p:cNvSpPr/>
          <p:nvPr/>
        </p:nvSpPr>
        <p:spPr>
          <a:xfrm>
            <a:off x="-11160" y="0"/>
            <a:ext cx="91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Example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relation RECRUITING (functional dependencies show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46080" y="1600200"/>
            <a:ext cx="9051840" cy="1687680"/>
          </a:xfrm>
          <a:prstGeom prst="rect">
            <a:avLst/>
          </a:prstGeom>
          <a:ln w="0">
            <a:noFill/>
          </a:ln>
        </p:spPr>
      </p:pic>
      <p:sp>
        <p:nvSpPr>
          <p:cNvPr id="251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B519F554-1C0D-494A-9531-70ACE9D27EC3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NORMALIZATION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554120"/>
            <a:ext cx="868680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Normalization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- process used to improve the design of relational databas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Normal form -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erm representing a set of particular conditions (whose purpose is reducing data redundancy) that a table has to satisf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From a lower to a higher normal form, these conditions are increasingly stricter and leave less possibility for redundant data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C50BE56E-A46D-4B0E-80C1-6EB5DF0B41C6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NORMALIZATION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554120"/>
            <a:ext cx="868680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here are several normal forms, most fundamental of which are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First normal form (1NF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Second normal form (2NF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Third normal form (3NF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A59A7B7C-4DAC-4913-9BE6-0E23FE019E2F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NORMALIZATION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554120"/>
            <a:ext cx="868680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he normalization process involves examining each table and verifying if it satisfies a particular normal form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f a table satisfies a particular normal form, then the next step is to verify if that relation satisfies the next higher normal form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f a table does not satisfy a particular normal form, actions are taken to convert the table into a set of tables that satisfy the particular normal form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044432FB-2B70-4631-AF29-85109F2E7E59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NORMALIZATION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554120"/>
            <a:ext cx="868680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Normalizing to </a:t>
            </a:r>
            <a:r>
              <a:rPr b="0" i="1" lang="en-US" sz="2400" spc="-1" strike="noStrike">
                <a:solidFill>
                  <a:srgbClr val="4e3b30"/>
                </a:solidFill>
                <a:latin typeface="Franklin Gothic Book"/>
              </a:rPr>
              <a:t>first normal form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s done on non-relational tables in order to convert them to relational tabl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Normalizing to </a:t>
            </a:r>
            <a:r>
              <a:rPr b="0" i="1" lang="en-US" sz="2400" spc="-1" strike="noStrike">
                <a:solidFill>
                  <a:srgbClr val="4e3b30"/>
                </a:solidFill>
                <a:latin typeface="Franklin Gothic Book"/>
              </a:rPr>
              <a:t>subsequent normal forms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(e.g., second normal form, third normal form) improves the design of relational tables that contain redundant information and alleviates the problem of update anomali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6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46FFA0CC-B20E-4A13-812D-BD5435A8FAB4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NORMALIZATION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554120"/>
            <a:ext cx="868680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First Normal Form (1NF) - </a:t>
            </a:r>
            <a:r>
              <a:rPr b="0" i="1" lang="en-US" sz="2400" spc="-1" strike="noStrike">
                <a:solidFill>
                  <a:srgbClr val="4e3b30"/>
                </a:solidFill>
                <a:latin typeface="Franklin Gothic Book"/>
              </a:rPr>
              <a:t>A table is in 1NF if each row is unique and no column in any row contains multiple valu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1NF states that each value in each column of a table must be a single value from the domain of the colum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Every relational table is, by definition, in 1NF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Related multivalued columns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- columns in a table that refer to the same real-world concept (entity) and can have multiple values per record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Normalizing to 1NF involves eliminating groups of related multi-valued columns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69AF6916-5D18-40E0-AB70-7E9B00351494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UPDATE OPERATION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xample of a delete opera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42FD7517-2549-4461-8B16-75A49A25FF2A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743200" y="2011320"/>
            <a:ext cx="450684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Content Placeholder 2"/>
          <p:cNvSpPr/>
          <p:nvPr/>
        </p:nvSpPr>
        <p:spPr>
          <a:xfrm>
            <a:off x="-11160" y="0"/>
            <a:ext cx="91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Example: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Normalizing a table to </a:t>
            </a: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1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ontent Placeholder 2"/>
          <p:cNvSpPr/>
          <p:nvPr/>
        </p:nvSpPr>
        <p:spPr>
          <a:xfrm>
            <a:off x="0" y="97776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e3b30"/>
                </a:solidFill>
                <a:latin typeface="Franklin Gothic Book"/>
              </a:rPr>
              <a:t>Non-relational table (not in 1NF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ontent Placeholder 2"/>
          <p:cNvSpPr/>
          <p:nvPr/>
        </p:nvSpPr>
        <p:spPr>
          <a:xfrm>
            <a:off x="-12600" y="3886200"/>
            <a:ext cx="38224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Normalizing the table to 1NF by increasing the number of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4038480" y="977760"/>
            <a:ext cx="4480200" cy="27432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"/>
          <p:cNvPicPr/>
          <p:nvPr/>
        </p:nvPicPr>
        <p:blipFill>
          <a:blip r:embed="rId2"/>
          <a:stretch/>
        </p:blipFill>
        <p:spPr>
          <a:xfrm>
            <a:off x="4038480" y="3886200"/>
            <a:ext cx="4579920" cy="2743200"/>
          </a:xfrm>
          <a:prstGeom prst="rect">
            <a:avLst/>
          </a:prstGeom>
          <a:ln w="0">
            <a:noFill/>
          </a:ln>
        </p:spPr>
      </p:pic>
      <p:sp>
        <p:nvSpPr>
          <p:cNvPr id="278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A36FA31E-ECFC-4567-B214-411182307D9E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Content Placeholder 2"/>
          <p:cNvSpPr/>
          <p:nvPr/>
        </p:nvSpPr>
        <p:spPr>
          <a:xfrm>
            <a:off x="-11160" y="0"/>
            <a:ext cx="91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Example: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Normalizing a table to </a:t>
            </a: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1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ontent Placeholder 2"/>
          <p:cNvSpPr/>
          <p:nvPr/>
        </p:nvSpPr>
        <p:spPr>
          <a:xfrm>
            <a:off x="0" y="97776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e3b30"/>
                </a:solidFill>
                <a:latin typeface="Franklin Gothic Book"/>
              </a:rPr>
              <a:t>Non-relational table (not in 1NF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Content Placeholder 2"/>
          <p:cNvSpPr/>
          <p:nvPr/>
        </p:nvSpPr>
        <p:spPr>
          <a:xfrm>
            <a:off x="-12600" y="3886200"/>
            <a:ext cx="38224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Normalizing the table to 1NF</a:t>
            </a:r>
            <a:br>
              <a:rPr sz="20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by creating a new, separate </a:t>
            </a:r>
            <a:br>
              <a:rPr sz="20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4038480" y="977760"/>
            <a:ext cx="4480200" cy="27432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3565440" y="3840120"/>
            <a:ext cx="5546880" cy="2743200"/>
          </a:xfrm>
          <a:prstGeom prst="rect">
            <a:avLst/>
          </a:prstGeom>
          <a:ln w="0">
            <a:noFill/>
          </a:ln>
        </p:spPr>
      </p:pic>
      <p:sp>
        <p:nvSpPr>
          <p:cNvPr id="285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A2BA324C-08AD-4131-96FB-DE9157851F87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Content Placeholder 2"/>
          <p:cNvSpPr/>
          <p:nvPr/>
        </p:nvSpPr>
        <p:spPr>
          <a:xfrm>
            <a:off x="-11160" y="0"/>
            <a:ext cx="91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Example: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Normalizing a table to </a:t>
            </a: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1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Content Placeholder 2"/>
          <p:cNvSpPr/>
          <p:nvPr/>
        </p:nvSpPr>
        <p:spPr>
          <a:xfrm>
            <a:off x="0" y="558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Non-relational table (not in 1NF) with two groups of related multivalued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ontent Placeholder 2"/>
          <p:cNvSpPr/>
          <p:nvPr/>
        </p:nvSpPr>
        <p:spPr>
          <a:xfrm>
            <a:off x="-12600" y="3886200"/>
            <a:ext cx="9156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Normalizing the table to 1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1143000" y="1015920"/>
            <a:ext cx="6084720" cy="2925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tretch/>
        </p:blipFill>
        <p:spPr>
          <a:xfrm>
            <a:off x="888840" y="4267080"/>
            <a:ext cx="7353360" cy="2336760"/>
          </a:xfrm>
          <a:prstGeom prst="rect">
            <a:avLst/>
          </a:prstGeom>
          <a:ln w="0">
            <a:noFill/>
          </a:ln>
        </p:spPr>
      </p:pic>
      <p:sp>
        <p:nvSpPr>
          <p:cNvPr id="292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7871211A-B057-4AB8-8E23-3E9856B48258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NORMALIZATION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554120"/>
            <a:ext cx="868680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Second Normal Form (2NF) - </a:t>
            </a:r>
            <a:r>
              <a:rPr b="0" i="1" lang="en-US" sz="2400" spc="-1" strike="noStrike">
                <a:solidFill>
                  <a:srgbClr val="4e3b30"/>
                </a:solidFill>
                <a:latin typeface="Franklin Gothic Book"/>
              </a:rPr>
              <a:t>A table is in 2NF if it is in 1NF and if it </a:t>
            </a:r>
            <a:r>
              <a:rPr b="1" i="1" lang="en-US" sz="2400" spc="-1" strike="noStrike">
                <a:solidFill>
                  <a:srgbClr val="4e3b30"/>
                </a:solidFill>
                <a:latin typeface="Franklin Gothic Book"/>
              </a:rPr>
              <a:t>does not contain partial functional dependenci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If a relation has a single-column primary key, then there is no possibility of partial functional dependencie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Such a relation is automatically in 2NF and it does not have to be normalized to 2NF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If a relation with a composite primary key has partial dependencies, then it is not in 2NF, and it has to be normalized it to 2NF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DB2219F6-E96C-4114-827D-910B4D585C9E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NORMALIZATION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554120"/>
            <a:ext cx="868680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Second Normal Form (2NF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Normalization of a relation to 2NF creates additional relations for each set of partial dependencies in a rela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The primary key of the additional relation is the portion of the primary key that functionally determines the columns in the original relation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The columns that were partially determined in the original relation are part of the additional table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The original table remains after the process of normalizing to 2NF, but it no longer contains the partially dependent column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F33A2FF6-EDC5-4F26-93A6-3177645B2100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Content Placeholder 2"/>
          <p:cNvSpPr/>
          <p:nvPr/>
        </p:nvSpPr>
        <p:spPr>
          <a:xfrm>
            <a:off x="-11160" y="0"/>
            <a:ext cx="91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Example: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Normalizing a table to </a:t>
            </a: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2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Content Placeholder 2"/>
          <p:cNvSpPr/>
          <p:nvPr/>
        </p:nvSpPr>
        <p:spPr>
          <a:xfrm>
            <a:off x="0" y="558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Pressly Ad Agency - relation AD CAMPAIGN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Content Placeholder 2"/>
          <p:cNvSpPr/>
          <p:nvPr/>
        </p:nvSpPr>
        <p:spPr>
          <a:xfrm>
            <a:off x="0" y="3200400"/>
            <a:ext cx="9156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Pressly Ad Agency example - normalized to 2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46080" y="3657600"/>
            <a:ext cx="9051840" cy="3043080"/>
          </a:xfrm>
          <a:prstGeom prst="rect">
            <a:avLst/>
          </a:prstGeom>
          <a:ln w="0">
            <a:noFill/>
          </a:ln>
        </p:spPr>
      </p:pic>
      <p:sp>
        <p:nvSpPr>
          <p:cNvPr id="306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90E08781-90BD-49FB-BF48-15E01A8C6ECD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2"/>
          <a:stretch/>
        </p:blipFill>
        <p:spPr>
          <a:xfrm>
            <a:off x="27000" y="1143000"/>
            <a:ext cx="905184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NORMALIZATION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554120"/>
            <a:ext cx="868680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Third Normal Form (3NF) - </a:t>
            </a:r>
            <a:r>
              <a:rPr b="0" i="1" lang="en-US" sz="2400" spc="-1" strike="noStrike">
                <a:solidFill>
                  <a:srgbClr val="4e3b30"/>
                </a:solidFill>
                <a:latin typeface="Franklin Gothic Book"/>
              </a:rPr>
              <a:t>A table is in 3NF if it is in 2NF and if it </a:t>
            </a:r>
            <a:r>
              <a:rPr b="1" i="1" lang="en-US" sz="2400" spc="-1" strike="noStrike">
                <a:solidFill>
                  <a:srgbClr val="4e3b30"/>
                </a:solidFill>
                <a:latin typeface="Franklin Gothic Book"/>
              </a:rPr>
              <a:t>does not contain transitive functional dependenci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6D20196B-84AE-4D11-8422-C9611010854B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NORMALIZATION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554120"/>
            <a:ext cx="868680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Third Normal Form (3NF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Normalization of a relation to 3NF creates additional relations for each set of transitive dependencies in a relation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The primary key of the additional relation is the nonkey column (or columns) that functionally determined the nonkey columns in the original relation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The nonkey columns that were transitively determined in the original relation are part of the additional table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The original table remains after normalizing to 3NF, but it no longer contains the transitively dependent column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DE0F8A10-03A5-48CF-9C21-928355CC20CF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Content Placeholder 2"/>
          <p:cNvSpPr/>
          <p:nvPr/>
        </p:nvSpPr>
        <p:spPr>
          <a:xfrm>
            <a:off x="-11160" y="0"/>
            <a:ext cx="91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Example: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Normalizing a table to </a:t>
            </a: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3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Content Placeholder 2"/>
          <p:cNvSpPr/>
          <p:nvPr/>
        </p:nvSpPr>
        <p:spPr>
          <a:xfrm>
            <a:off x="5868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3b30"/>
                </a:solidFill>
                <a:latin typeface="Franklin Gothic Book"/>
              </a:rPr>
              <a:t>Pressly Ad Agency example - normalized to 2N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Content Placeholder 2"/>
          <p:cNvSpPr/>
          <p:nvPr/>
        </p:nvSpPr>
        <p:spPr>
          <a:xfrm>
            <a:off x="46080" y="3581280"/>
            <a:ext cx="9156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3b30"/>
                </a:solidFill>
                <a:latin typeface="Franklin Gothic Book"/>
              </a:rPr>
              <a:t>Pressly Ad Agency example - normalized to 3N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84240" y="800280"/>
            <a:ext cx="8159760" cy="27432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"/>
          <p:cNvPicPr/>
          <p:nvPr/>
        </p:nvPicPr>
        <p:blipFill>
          <a:blip r:embed="rId2"/>
          <a:stretch/>
        </p:blipFill>
        <p:spPr>
          <a:xfrm>
            <a:off x="84240" y="3873600"/>
            <a:ext cx="8718480" cy="2825640"/>
          </a:xfrm>
          <a:prstGeom prst="rect">
            <a:avLst/>
          </a:prstGeom>
          <a:ln w="0">
            <a:noFill/>
          </a:ln>
        </p:spPr>
      </p:pic>
      <p:sp>
        <p:nvSpPr>
          <p:cNvPr id="322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4893D0B6-86F5-463D-99B2-49858834E120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Content Placeholder 2"/>
          <p:cNvSpPr/>
          <p:nvPr/>
        </p:nvSpPr>
        <p:spPr>
          <a:xfrm>
            <a:off x="-11160" y="0"/>
            <a:ext cx="91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Example: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Normalizing a table to </a:t>
            </a: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3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Content Placeholder 2"/>
          <p:cNvSpPr/>
          <p:nvPr/>
        </p:nvSpPr>
        <p:spPr>
          <a:xfrm>
            <a:off x="8424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Pressly Ad Agency example – relational schema of 3NF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1527120" y="1168560"/>
            <a:ext cx="6077160" cy="4743360"/>
          </a:xfrm>
          <a:prstGeom prst="rect">
            <a:avLst/>
          </a:prstGeom>
          <a:ln w="0">
            <a:noFill/>
          </a:ln>
        </p:spPr>
      </p:pic>
      <p:sp>
        <p:nvSpPr>
          <p:cNvPr id="327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0FFDF651-EAC3-4344-9B1B-CDEC4D909545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UPDATE OPERATION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xample of a modification opera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04EACF10-D96D-46A0-BDDD-D61D4FEF1E5B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2743200" y="2011320"/>
            <a:ext cx="43257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Content Placeholder 2"/>
          <p:cNvSpPr/>
          <p:nvPr/>
        </p:nvSpPr>
        <p:spPr>
          <a:xfrm>
            <a:off x="-11160" y="0"/>
            <a:ext cx="91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Pressly Ad Agency relation AD CAMPAIGN MIX – not normalized, prone to update anoma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39600" y="1600200"/>
            <a:ext cx="9053640" cy="3340080"/>
          </a:xfrm>
          <a:prstGeom prst="rect">
            <a:avLst/>
          </a:prstGeom>
          <a:ln w="0">
            <a:noFill/>
          </a:ln>
        </p:spPr>
      </p:pic>
      <p:sp>
        <p:nvSpPr>
          <p:cNvPr id="331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DF1264AC-49AA-4E0B-A2C5-D52EDC5D4F3F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Content Placeholder 2"/>
          <p:cNvSpPr/>
          <p:nvPr/>
        </p:nvSpPr>
        <p:spPr>
          <a:xfrm>
            <a:off x="-11160" y="0"/>
            <a:ext cx="91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Pressly Ad Agency example—normalized relations with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" descr=""/>
          <p:cNvPicPr/>
          <p:nvPr/>
        </p:nvPicPr>
        <p:blipFill>
          <a:blip r:embed="rId1"/>
          <a:stretch/>
        </p:blipFill>
        <p:spPr>
          <a:xfrm>
            <a:off x="2444760" y="366840"/>
            <a:ext cx="4403880" cy="630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5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43245E21-C81D-4950-8A87-36EFEB9A76AA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2444760" y="379440"/>
            <a:ext cx="5051520" cy="630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7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Content Placeholder 2"/>
          <p:cNvSpPr/>
          <p:nvPr/>
        </p:nvSpPr>
        <p:spPr>
          <a:xfrm>
            <a:off x="-11160" y="0"/>
            <a:ext cx="91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Pressly Ad Agency example—normalized relations with data, update anomalies res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94D0ECD6-7241-4F6D-A74D-2605AE0A6BFF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Content Placeholder 2"/>
          <p:cNvSpPr/>
          <p:nvPr/>
        </p:nvSpPr>
        <p:spPr>
          <a:xfrm>
            <a:off x="-11160" y="0"/>
            <a:ext cx="91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Another normalization example: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Normalizing a table to </a:t>
            </a: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2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Content Placeholder 2"/>
          <p:cNvSpPr/>
          <p:nvPr/>
        </p:nvSpPr>
        <p:spPr>
          <a:xfrm>
            <a:off x="0" y="368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3b30"/>
                </a:solidFill>
                <a:latin typeface="Franklin Gothic Book"/>
              </a:rPr>
              <a:t>Central Plane University - relation RECRUI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Content Placeholder 2"/>
          <p:cNvSpPr/>
          <p:nvPr/>
        </p:nvSpPr>
        <p:spPr>
          <a:xfrm>
            <a:off x="46080" y="2577960"/>
            <a:ext cx="9156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3b30"/>
                </a:solidFill>
                <a:latin typeface="Franklin Gothic Book"/>
              </a:rPr>
              <a:t>Central Plane University example - normalized to 2N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304920" y="787320"/>
            <a:ext cx="7315200" cy="13636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"/>
          <p:cNvPicPr/>
          <p:nvPr/>
        </p:nvPicPr>
        <p:blipFill>
          <a:blip r:embed="rId2"/>
          <a:stretch/>
        </p:blipFill>
        <p:spPr>
          <a:xfrm>
            <a:off x="274680" y="2984400"/>
            <a:ext cx="5513400" cy="3382920"/>
          </a:xfrm>
          <a:prstGeom prst="rect">
            <a:avLst/>
          </a:prstGeom>
          <a:ln w="0">
            <a:noFill/>
          </a:ln>
        </p:spPr>
      </p:pic>
      <p:sp>
        <p:nvSpPr>
          <p:cNvPr id="346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8AE03444-F412-4177-B1FE-B796257E3033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Content Placeholder 2"/>
          <p:cNvSpPr/>
          <p:nvPr/>
        </p:nvSpPr>
        <p:spPr>
          <a:xfrm>
            <a:off x="-11160" y="0"/>
            <a:ext cx="91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Another normalization example: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Normalizing a table to </a:t>
            </a: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3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Content Placeholder 2"/>
          <p:cNvSpPr/>
          <p:nvPr/>
        </p:nvSpPr>
        <p:spPr>
          <a:xfrm>
            <a:off x="46080" y="2577960"/>
            <a:ext cx="9156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3b30"/>
                </a:solidFill>
                <a:latin typeface="Franklin Gothic Book"/>
              </a:rPr>
              <a:t>Central Plane University example - normalized to 3N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274680" y="2952720"/>
            <a:ext cx="7745400" cy="3475080"/>
          </a:xfrm>
          <a:prstGeom prst="rect">
            <a:avLst/>
          </a:prstGeom>
          <a:ln w="0">
            <a:noFill/>
          </a:ln>
        </p:spPr>
      </p:pic>
      <p:sp>
        <p:nvSpPr>
          <p:cNvPr id="351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2C8728B5-E9A3-41D9-98C7-3C8D78312F0D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46080" y="1600200"/>
            <a:ext cx="9051840" cy="3124080"/>
          </a:xfrm>
          <a:prstGeom prst="rect">
            <a:avLst/>
          </a:prstGeom>
          <a:ln w="0">
            <a:noFill/>
          </a:ln>
        </p:spPr>
      </p:pic>
      <p:sp>
        <p:nvSpPr>
          <p:cNvPr id="354" name="Content Placeholder 2"/>
          <p:cNvSpPr/>
          <p:nvPr/>
        </p:nvSpPr>
        <p:spPr>
          <a:xfrm>
            <a:off x="-11160" y="0"/>
            <a:ext cx="91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Central Plane University relation RECRUITING – not normalized, prone to update anoma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E9AB663D-5F6C-4135-9F5E-5A621036E9FA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Content Placeholder 2"/>
          <p:cNvSpPr/>
          <p:nvPr/>
        </p:nvSpPr>
        <p:spPr>
          <a:xfrm>
            <a:off x="-11160" y="0"/>
            <a:ext cx="9155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Central Plane University example - normalized relations with data (redundancy eliminated and update anomalies resolv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485640" y="838080"/>
            <a:ext cx="8172720" cy="5677200"/>
          </a:xfrm>
          <a:prstGeom prst="rect">
            <a:avLst/>
          </a:prstGeom>
          <a:ln w="0">
            <a:noFill/>
          </a:ln>
        </p:spPr>
      </p:pic>
      <p:sp>
        <p:nvSpPr>
          <p:cNvPr id="359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7D1C90AC-BA8F-44E7-ABC0-B01300811120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UPDATE OPERATION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Update operation terminology note: in practice there are two different uses of the term “update operation”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A)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Update operation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as a </a:t>
            </a: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collective term for insert, delete and modify operation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B) Update operation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as a </a:t>
            </a: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synonym for the modify opera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n this chapter we will use the term update operation as defined in A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A3EC644A-FC7D-4144-9AAF-0C24481576F6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UPDATE ANOMAL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553760"/>
            <a:ext cx="86868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Update anomalies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- anomalies in relations that contain redundant (unnecessarily repeating) data, caused by update operation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Insertion anomaly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- occurs when inserting data about one real-world entity requires inserting data about another real-world entity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Deletion anomaly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- occurs when deletion of data about a real-world entity forces deletion of data about another real-world entity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Modification anomaly -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occurs when, in order to modify one real-world value, the same modification has to be made multiple time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17D4D700-67C1-4F8E-B527-BFF28FCDD284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ontent Placeholder 2"/>
          <p:cNvSpPr/>
          <p:nvPr/>
        </p:nvSpPr>
        <p:spPr>
          <a:xfrm>
            <a:off x="-11160" y="0"/>
            <a:ext cx="91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Example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relation AD CAMPAIGN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39600" y="1600200"/>
            <a:ext cx="9053640" cy="334008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D410A7F0-4F26-476F-8F1C-ECEFE61F5CA1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36360" y="1600200"/>
            <a:ext cx="9052200" cy="4740120"/>
          </a:xfrm>
          <a:prstGeom prst="rect">
            <a:avLst/>
          </a:prstGeom>
          <a:ln w="0">
            <a:noFill/>
          </a:ln>
        </p:spPr>
      </p:pic>
      <p:sp>
        <p:nvSpPr>
          <p:cNvPr id="142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ontent Placeholder 2"/>
          <p:cNvSpPr/>
          <p:nvPr/>
        </p:nvSpPr>
        <p:spPr>
          <a:xfrm>
            <a:off x="-11160" y="0"/>
            <a:ext cx="91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Example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relation AD CAMPAIGN MIX (contains redundant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BF498417-E0C4-4355-BB1A-61A581A1F423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user</dc:creator>
  <dc:description/>
  <dc:language>en-US</dc:language>
  <cp:lastModifiedBy>user</cp:lastModifiedBy>
  <dcterms:modified xsi:type="dcterms:W3CDTF">2013-02-25T19:48:37Z</dcterms:modified>
  <cp:revision>104</cp:revision>
  <dc:subject/>
  <dc:title>CHAPTER 1 - Introduction</dc:title>
</cp:coreProperties>
</file>