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B08E-E9B4-4158-A6F2-CBCD60FCC1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9628-380F-45AA-A454-82F89171F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D32-F548-448D-A549-7BA43908C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48EA-654F-4FA6-B99A-37D0C3ABE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065A-AFC2-478B-9636-4B3FAF439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FE28-452D-4323-8761-C6DC193A9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41EA-29CE-4726-A243-CE8F3F27B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735A-BD57-421C-9C98-B6284522E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3A07-EA08-4711-BFDD-24A0E8D6A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7D0D-2AB4-468A-9058-A5BD05497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8215-08B0-4BCA-B4BF-87B10D39D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CED1-3AA3-4112-96C8-F4606252C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E67C-31BB-4D38-B3B0-99B67C899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CE8D-632C-4F30-9885-AA831A2F3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35A0-BADE-4A58-BBD3-666D38AC9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1AB1-81CF-4876-AE2A-85A916F3C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F385-8CA6-45DE-8D96-C2364041A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6464-2EDE-4C67-8028-3A333CA2D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B09D-EC67-49B8-847F-6F5322B78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B3C0-16F0-4934-A8CB-4A2798007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B357-BC3F-4A5A-840A-D2B493A48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521F-6870-48B6-81DD-DB9463194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8703-AA8D-4F22-BE16-0A2DA8F60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9E76-5F14-43A3-B6EA-8DA7DB8F0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0BB4-DDBD-4ABA-B8CB-2BC795300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AE9C-3EE5-47D3-BF35-470CAF0DE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DAC4-317C-4450-942D-C65B8B86B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15C4-8A03-41C5-8C5C-ADEDD8066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479E-F51B-4E4C-A118-3714F7FB4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9831-53E8-4FD1-9775-49E485035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83DF-AD03-4368-9197-A29F7E19B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8883-DB56-40C1-99AB-8DFC4351D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5-286.</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6018-BA77-4E5A-A36F-D50E383F0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616C-37DF-47A6-B750-CFDB4C650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5-286.</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E0C2-7C61-45EF-B85C-3DADC7838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5757-8A46-472E-9320-A4E67F10B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EA9C-DA00-4714-90E2-BD020A828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6300-DAD9-4F35-97BD-9C0D50579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4F5A-D7EB-48AF-B251-0B15D3450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4E2F-A24C-427D-954C-5ED30C2FB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C1F8-42A8-421E-9B36-F1F988703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sted additional  functionalities are found in other non-OLAP applications, such as statistical tools or spreadsheet software.  What truly distinguishes OLAP/BI tools from other applications is the capability to easily interact with the dimensionally modeled data marts and data warehouses and, consequently, the capability to perform OLAP functions on large amounts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844A-DDC9-41C2-A43C-3045B1641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8.</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EE63-1EE6-48E3-AA9D-86383D408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67FA-539B-4BAB-AF0B-52BAA1E35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241B-2040-4F1A-AD5C-5284443B6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oc direct analysis of dimensionally modeled data - </a:t>
            </a:r>
            <a:r>
              <a:rPr b="0" lang="en-US" sz="1200" spc="-1" strike="noStrike">
                <a:solidFill>
                  <a:srgbClr val="000000"/>
                </a:solidFill>
                <a:latin typeface="Calibri"/>
              </a:rPr>
              <a:t>occurs when a user accesses the data in the data warehouse via an OLAP/BI tool, and performs actions, such as pivoting, slicing and drilling.  This process is also sometimes referred to as data interrogation, because often the answers to one query lead into new questions.  For example, an analyst may create a query using an OLAP/BI tool.  The answer to that query may prompt an additional question which is then answered by pivoting, slicing or drilling the result of the original qu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ion of front-end (BI) applications </a:t>
            </a:r>
            <a:r>
              <a:rPr b="0" lang="en-US" sz="1200" spc="-1" strike="noStrike">
                <a:solidFill>
                  <a:srgbClr val="000000"/>
                </a:solidFill>
                <a:latin typeface="Calibri"/>
              </a:rPr>
              <a:t>- the data warehouse front end application can be created simply as a collection of the OLAP/BI tool queries created by OLAP/BI tool expert users.  Such a collection can be accompanied with a menu structure for navigation and then provided to the users of the data warehouse who do not have the access privilege, expertise and/or the time to use OLAP/BI tools di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F034-6E33-40E6-B607-63F5A0E92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 portion of intended users (often a majority of the users) of the data warehouse lack the time and/or expertise to engage in open-ended direct analysis of the data.  It is not reasonable to expect every person who needs to use the data from the data warehouse as a part of their workplace responsibilities, to develop their own queries by writing the SQL code or engaging in the ad-hoc use of OLAP/BI tools.  Instead, many of the data warehouse and data mart end-users access the data through front-end (BI)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B732-FF8C-4A21-87DC-6B7A0AC05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C0F-A214-4FED-891B-492A7A86B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34E2-B3AE-4D5B-9460-D8340F772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13F9-ECD0-47D8-AFBD-F3BF549D7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3350-7C8E-45A0-A107-AB0A6045B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B58-87B7-4312-9589-90EB5864F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2A88-3399-4EA8-8772-F8AF0B268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D10A-883D-4CF1-9A26-74B6A393E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edback from the testing phases may result in making modifications to the system prior to the actual deployment of a functioning data warehousing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deployment does not occur all at once for the entire population of the intended end-users instead the deployment process is more gradual.</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C47B-13A0-4B36-BB97-2A20A524E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A502-DA3A-49D9-9826-59795712E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ossible that, in the process of creating the ETL infrastructure, the data warehouse development team may realize that certain ETL actions should be done differently from what is prescribed by the given data model.  In such cases the project will move iteratively back from the creation of ETL infrastructure to the requiremen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A192-E202-44CC-8E3A-D3EDCBD1A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FFD9-1BC9-4226-A634-483AEEA65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0674-915E-4793-9C89-D849A8AFB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6DF6CF-12EF-4CF3-AF51-388A53949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91C6D-4B79-4CFA-8AA8-15E260F27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83345A-2857-4E9A-B157-FCB0469E80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6BAB5F-682C-40C0-8C8A-84AB52C9E6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03848-442B-47EA-A0D5-5F36F6AAF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6FA74-006D-4C65-ABDB-0772916DD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851A89-6367-489C-9C58-386F75274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2EA7C9-CAFC-4C78-B2D0-A1BFD09A30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97D4BE-D9BB-4C0F-A93D-BBCE3523A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57B9A-754D-4DC7-8CFA-1A18D9AAC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DDD94-6D98-466B-A31A-1E4D63C5B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E62B5A-3E73-4394-8B57-74525889E0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D2EE5E9-550C-49F7-B1C7-300537448F75}"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9940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4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oad -  </a:t>
            </a:r>
            <a:r>
              <a:rPr b="0" lang="en-US" sz="2400" spc="-1" strike="noStrike">
                <a:solidFill>
                  <a:srgbClr val="4e3b30"/>
                </a:solidFill>
                <a:latin typeface="Franklin Gothic Book"/>
              </a:rPr>
              <a:t>loading the extracted, transformed, and quality assured data into the target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batch process that inserts the data into the data warehouse tables in an automatic fashion without user involvement</a:t>
            </a:r>
            <a:endParaRPr b="0" lang="en-US" sz="2000" spc="-1" strike="noStrike">
              <a:solidFill>
                <a:srgbClr val="4e3b30"/>
              </a:solidFill>
              <a:latin typeface="Franklin Gothic Book"/>
            </a:endParaRPr>
          </a:p>
        </p:txBody>
      </p:sp>
      <p:sp>
        <p:nvSpPr>
          <p:cNvPr id="1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A1FABDA8-75C0-441D-B6DB-5438959BBA1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4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oad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initial load </a:t>
            </a:r>
            <a:r>
              <a:rPr b="0" lang="en-US" sz="2000" spc="-1" strike="noStrike">
                <a:solidFill>
                  <a:srgbClr val="4e3b30"/>
                </a:solidFill>
                <a:latin typeface="Franklin Gothic Book"/>
              </a:rPr>
              <a:t>(</a:t>
            </a:r>
            <a:r>
              <a:rPr b="1" lang="en-US" sz="2000" spc="-1" strike="noStrike">
                <a:solidFill>
                  <a:srgbClr val="4e3b30"/>
                </a:solidFill>
                <a:latin typeface="Franklin Gothic Book"/>
              </a:rPr>
              <a:t>first load</a:t>
            </a:r>
            <a:r>
              <a:rPr b="0" lang="en-US" sz="2000" spc="-1" strike="noStrike">
                <a:solidFill>
                  <a:srgbClr val="4e3b30"/>
                </a:solidFill>
                <a:latin typeface="Franklin Gothic Book"/>
              </a:rPr>
              <a:t>), populates initially empty data warehouse t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t can involve large amounts of data, depending on what is the desired time horizon of the data in the newly initiated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subsequent load is referred to as a </a:t>
            </a:r>
            <a:r>
              <a:rPr b="1" lang="en-US" sz="2000" spc="-1" strike="noStrike">
                <a:solidFill>
                  <a:srgbClr val="4e3b30"/>
                </a:solidFill>
                <a:latin typeface="Franklin Gothic Book"/>
              </a:rPr>
              <a:t>refresh loa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fresh cycle </a:t>
            </a:r>
            <a:r>
              <a:rPr b="0" lang="en-US" sz="2000" spc="-1" strike="noStrike">
                <a:solidFill>
                  <a:srgbClr val="4e3b30"/>
                </a:solidFill>
                <a:latin typeface="Franklin Gothic Book"/>
              </a:rPr>
              <a:t>is the period in which the data warehouse is reloaded with the new data (e.g. hourly, dail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ermined in advance, based on the analytical needs of the business users of the data warehouse and the technical feasibility of the system</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active data warehouses</a:t>
            </a:r>
            <a:r>
              <a:rPr b="0" lang="en-US" sz="2000" spc="-1" strike="noStrike">
                <a:solidFill>
                  <a:srgbClr val="4e3b30"/>
                </a:solidFill>
                <a:latin typeface="Franklin Gothic Book"/>
              </a:rPr>
              <a:t> the loads occur in micro batches that occur continuously</a:t>
            </a:r>
            <a:endParaRPr b="0" lang="en-US" sz="2000" spc="-1" strike="noStrike">
              <a:solidFill>
                <a:srgbClr val="4e3b30"/>
              </a:solidFill>
              <a:latin typeface="Franklin Gothic Book"/>
            </a:endParaRPr>
          </a:p>
        </p:txBody>
      </p:sp>
      <p:sp>
        <p:nvSpPr>
          <p:cNvPr id="1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B18FDC2-0030-417D-A4D3-AF4CAB95A85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66A52F3-C0B2-4465-B485-B3A2DFB26E5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5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1 – ER diagr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
          <p:cNvPicPr/>
          <p:nvPr/>
        </p:nvPicPr>
        <p:blipFill>
          <a:blip r:embed="rId1"/>
          <a:stretch/>
        </p:blipFill>
        <p:spPr>
          <a:xfrm>
            <a:off x="457200" y="838080"/>
            <a:ext cx="8327880" cy="539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003FE01-B076-45FE-BD31-B7E817699EF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5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1 – Relational schema</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990720" y="1447920"/>
            <a:ext cx="7291440" cy="4022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2227546-F004-4B86-9E2D-3EE0A0E6E76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r>
              <a:rPr b="0" lang="en-US" sz="1800" spc="-1" strike="noStrike">
                <a:solidFill>
                  <a:srgbClr val="4e3b30"/>
                </a:solidFill>
                <a:latin typeface="Franklin Gothic Book"/>
              </a:rPr>
              <a:t>Source 1 – Data records</a:t>
            </a:r>
            <a:endParaRPr b="0" lang="en-US" sz="1800" spc="-1" strike="noStrike">
              <a:solidFill>
                <a:srgbClr val="000000"/>
              </a:solidFill>
              <a:latin typeface="Arial"/>
            </a:endParaRPr>
          </a:p>
        </p:txBody>
      </p:sp>
      <p:pic>
        <p:nvPicPr>
          <p:cNvPr id="161" name="Picture 3" descr=""/>
          <p:cNvPicPr/>
          <p:nvPr/>
        </p:nvPicPr>
        <p:blipFill>
          <a:blip r:embed="rId1"/>
          <a:stretch/>
        </p:blipFill>
        <p:spPr>
          <a:xfrm>
            <a:off x="533520" y="380880"/>
            <a:ext cx="8345520" cy="6218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AEA3D412-CB9A-4987-AA96-ACF7984ADEA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2 – ER diagram and relational schem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
          <p:cNvPicPr/>
          <p:nvPr/>
        </p:nvPicPr>
        <p:blipFill>
          <a:blip r:embed="rId1"/>
          <a:stretch/>
        </p:blipFill>
        <p:spPr>
          <a:xfrm>
            <a:off x="1600200" y="647640"/>
            <a:ext cx="6402240" cy="594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52D7130-57AD-429A-B0C1-46FC86DBDA8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2 – data records</a:t>
            </a:r>
            <a:endParaRPr b="0" lang="en-US" sz="1800" spc="-1" strike="noStrike">
              <a:solidFill>
                <a:srgbClr val="000000"/>
              </a:solidFill>
              <a:latin typeface="Arial"/>
            </a:endParaRPr>
          </a:p>
        </p:txBody>
      </p:sp>
      <p:pic>
        <p:nvPicPr>
          <p:cNvPr id="169" name="Picture 2" descr=""/>
          <p:cNvPicPr/>
          <p:nvPr/>
        </p:nvPicPr>
        <p:blipFill>
          <a:blip r:embed="rId1"/>
          <a:stretch/>
        </p:blipFill>
        <p:spPr>
          <a:xfrm>
            <a:off x="1633680" y="1690560"/>
            <a:ext cx="5876640" cy="347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45E6E3C-A6EA-4981-87C7-33D74F6802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3</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2066760" y="2400480"/>
            <a:ext cx="501048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11F8741-092E-4C1F-A5C2-9940BFBD19B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Data warehouse populated with the data from Sources 1, 2, and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1987560" y="685800"/>
            <a:ext cx="5667480" cy="594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2C409AD-119E-41C2-AFE6-42A87CAB6D2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8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Data warehouse populated with the data from Sources 1, 2, and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
          <p:cNvPicPr/>
          <p:nvPr/>
        </p:nvPicPr>
        <p:blipFill>
          <a:blip r:embed="rId1"/>
          <a:stretch/>
        </p:blipFill>
        <p:spPr>
          <a:xfrm>
            <a:off x="1490760" y="1352520"/>
            <a:ext cx="6162480" cy="415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REATING A DATA WAREHOUSE</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a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using the functionalities of database management software to implement the data warehouse model as a collection of physically created and mutually connected database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often, data warehouses are modeled as relational databas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sequently, they are implemented using a relational DBM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46A38AC-664B-4A6F-8477-9C3294A4394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8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TL Infrastructu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the process of creating the ETL infrastructure includes using specialized ETL software tools and/or writing cod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 amount of detail that has to be considered, creating ETL infrastructure is often the most time and resource consuming part in the data warehouse development proces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though labor intensive, the process of creating the ETL infrastructure is essentially predetermined by the results of the requirements collection and data warehouse modeling processes which specify the sources and the target</a:t>
            </a:r>
            <a:endParaRPr b="0" lang="en-US" sz="2000" spc="-1" strike="noStrike">
              <a:solidFill>
                <a:srgbClr val="4e3b30"/>
              </a:solidFill>
              <a:latin typeface="Franklin Gothic Book"/>
            </a:endParaRPr>
          </a:p>
        </p:txBody>
      </p:sp>
      <p:sp>
        <p:nvSpPr>
          <p:cNvPr id="18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2041D92-DFC7-41BF-9DF8-8CB9219AA3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8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nline transaction processing (OLTP) - </a:t>
            </a:r>
            <a:r>
              <a:rPr b="0" lang="en-US" sz="2400" spc="-1" strike="noStrike">
                <a:solidFill>
                  <a:srgbClr val="4e3b30"/>
                </a:solidFill>
                <a:latin typeface="Franklin Gothic Book"/>
              </a:rPr>
              <a:t>updating (i.e. inserting, modifying and deleting), querying and presenting data from databases for operational purpose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nline analytical processing (OLAP) - </a:t>
            </a:r>
            <a:r>
              <a:rPr b="0" lang="en-US" sz="2400" spc="-1" strike="noStrike">
                <a:solidFill>
                  <a:srgbClr val="4e3b30"/>
                </a:solidFill>
                <a:latin typeface="Franklin Gothic Book"/>
              </a:rPr>
              <a:t>querying and presenting data from data warehouses and/or data marts for analytical purposes</a:t>
            </a:r>
            <a:endParaRPr b="0" lang="en-US" sz="2400" spc="-1" strike="noStrike">
              <a:solidFill>
                <a:srgbClr val="4e3b30"/>
              </a:solidFill>
              <a:latin typeface="Franklin Gothic Book"/>
            </a:endParaRPr>
          </a:p>
        </p:txBody>
      </p:sp>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B0880F2-66F9-435A-9555-65799C04E0E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9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signed for analysis of dimensionally modeled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ardless of which data warehousing approach is chosen, the data that is accessible by the end user is typically structured as a dimensional mode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LAP/BI tools can be used on analytical data stores created with different modeling approaches</a:t>
            </a:r>
            <a:endParaRPr b="0" lang="en-US" sz="18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F16FFD58-AF4E-4FA8-823F-48093C0EE11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D15100A-B589-4DF8-87AE-FAD705F209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LAP/BI tools as an interface to data warehouses modeled using different approaches</a:t>
            </a:r>
            <a:endParaRPr b="0" lang="en-US" sz="1800" spc="-1" strike="noStrike">
              <a:solidFill>
                <a:srgbClr val="000000"/>
              </a:solidFill>
              <a:latin typeface="Arial"/>
            </a:endParaRPr>
          </a:p>
        </p:txBody>
      </p:sp>
      <p:pic>
        <p:nvPicPr>
          <p:cNvPr id="197" name="Picture 3" descr=""/>
          <p:cNvPicPr/>
          <p:nvPr/>
        </p:nvPicPr>
        <p:blipFill>
          <a:blip r:embed="rId1"/>
          <a:stretch/>
        </p:blipFill>
        <p:spPr>
          <a:xfrm>
            <a:off x="46080" y="1066680"/>
            <a:ext cx="9051840" cy="3519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9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low users to query fact and dimension tables by using simple point-and-click query-building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ased on the point-and-click actions by the user of the OLAP/BI tool, the tool writes and executes the code in the language of the data management system (e.g. SQL) that hosts the data warehouse or data mart that is being queried</a:t>
            </a:r>
            <a:endParaRPr b="0" lang="en-US" sz="2000" spc="-1" strike="noStrike">
              <a:solidFill>
                <a:srgbClr val="4e3b30"/>
              </a:solidFill>
              <a:latin typeface="Franklin Gothic Book"/>
            </a:endParaRPr>
          </a:p>
        </p:txBody>
      </p:sp>
      <p:sp>
        <p:nvSpPr>
          <p:cNvPr id="2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DBF6A57-6CA8-45A3-B9F1-97B9820973E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11CD471-F080-4274-9803-54123EA4F4E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typical OLAP/BI tool query construction space</a:t>
            </a:r>
            <a:endParaRPr b="0" lang="en-US" sz="1800" spc="-1" strike="noStrike">
              <a:solidFill>
                <a:srgbClr val="000000"/>
              </a:solidFill>
              <a:latin typeface="Arial"/>
            </a:endParaRPr>
          </a:p>
        </p:txBody>
      </p:sp>
      <p:pic>
        <p:nvPicPr>
          <p:cNvPr id="205" name="Picture 2" descr=""/>
          <p:cNvPicPr/>
          <p:nvPr/>
        </p:nvPicPr>
        <p:blipFill>
          <a:blip r:embed="rId1"/>
          <a:stretch/>
        </p:blipFill>
        <p:spPr>
          <a:xfrm>
            <a:off x="1689120" y="412920"/>
            <a:ext cx="5938920" cy="62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28600" y="1904760"/>
            <a:ext cx="8686800" cy="1143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1: </a:t>
            </a:r>
            <a:r>
              <a:rPr b="0" lang="en-US" sz="2000" spc="-1" strike="noStrike">
                <a:solidFill>
                  <a:srgbClr val="4e3b30"/>
                </a:solidFill>
                <a:latin typeface="Franklin Gothic Book"/>
              </a:rPr>
              <a:t>For each individual store, show separately for male and female shoppers the number of product units sold for each product category</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1AAC0A9-CE01-467A-939D-36D275B313F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377A19B-4371-4A9E-918E-521004EE8AF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1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OLAP/BI tool query construction actions</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1679400" y="396720"/>
            <a:ext cx="5931000" cy="621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C6C9E60-0DDD-4D16-8142-B7151F30E65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1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1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1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asic OLAP/BI tool featur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Rot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Drill Up</a:t>
            </a:r>
            <a:endParaRPr b="0" lang="en-US" sz="1800" spc="-1" strike="noStrike">
              <a:solidFill>
                <a:srgbClr val="4e3b30"/>
              </a:solidFill>
              <a:latin typeface="Franklin Gothic Book"/>
            </a:endParaRPr>
          </a:p>
        </p:txBody>
      </p:sp>
      <p:sp>
        <p:nvSpPr>
          <p:cNvPr id="2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9434DF9-0AE0-448B-9EE3-64EF4C1EC3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2F4DC41-39FB-46D4-9871-9580C2C656D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1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A data warehouse mode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
          <p:cNvPicPr/>
          <p:nvPr/>
        </p:nvPicPr>
        <p:blipFill>
          <a:blip r:embed="rId1"/>
          <a:stretch/>
        </p:blipFill>
        <p:spPr>
          <a:xfrm>
            <a:off x="128520" y="952560"/>
            <a:ext cx="8886960" cy="495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2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lice and Di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dds, replaces, or eliminates specified dimension attributes (or particular values of the dimension attributes) from the already displayed result</a:t>
            </a:r>
            <a:endParaRPr b="0" lang="en-US" sz="2000" spc="-1" strike="noStrike">
              <a:solidFill>
                <a:srgbClr val="4e3b30"/>
              </a:solidFill>
              <a:latin typeface="Franklin Gothic Book"/>
            </a:endParaRPr>
          </a:p>
        </p:txBody>
      </p:sp>
      <p:sp>
        <p:nvSpPr>
          <p:cNvPr id="2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AB87386-F005-4FCB-BAFC-8975E7FE3A1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CDE0B41-6573-4A9E-9037-109EF0A8971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2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29"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28600" y="1905120"/>
            <a:ext cx="8686800" cy="914400"/>
          </a:xfrm>
          <a:prstGeom prst="rect">
            <a:avLst/>
          </a:prstGeom>
          <a:solidFill>
            <a:srgbClr val="ffffff"/>
          </a:solid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2: </a:t>
            </a:r>
            <a:r>
              <a:rPr b="0" lang="en-US" sz="2000" spc="-1" strike="noStrike">
                <a:solidFill>
                  <a:srgbClr val="4e3b30"/>
                </a:solidFill>
                <a:latin typeface="Franklin Gothic Book"/>
              </a:rPr>
              <a:t>For stores 1 and 2, show separately for male and female shoppers the number of product units sold for each product category</a:t>
            </a:r>
            <a:endParaRPr b="0" lang="en-US" sz="2000" spc="-1" strike="noStrike">
              <a:solidFill>
                <a:srgbClr val="4e3b30"/>
              </a:solidFill>
              <a:latin typeface="Franklin Gothic Book"/>
            </a:endParaRPr>
          </a:p>
        </p:txBody>
      </p:sp>
      <p:sp>
        <p:nvSpPr>
          <p:cNvPr id="2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04BC8DB-CA49-47C0-9451-CDFECFBDD63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33"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a:t>
            </a:r>
            <a:br>
              <a:rPr sz="1800"/>
            </a:br>
            <a:r>
              <a:rPr b="1" lang="en-US" sz="1800" spc="-1" strike="noStrike">
                <a:solidFill>
                  <a:srgbClr val="4e3b30"/>
                </a:solidFill>
                <a:latin typeface="Franklin Gothic Book"/>
              </a:rPr>
              <a:t>OLAP Query 2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CEE4572-A682-4090-B96C-A5E72819855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3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3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BB8C8BB-25C9-420C-9DE3-97835EF81C1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a:t>
            </a:r>
            <a:br>
              <a:rPr sz="1800"/>
            </a:br>
            <a:r>
              <a:rPr b="1" lang="en-US" sz="1800" spc="-1" strike="noStrike">
                <a:solidFill>
                  <a:srgbClr val="4e3b30"/>
                </a:solidFill>
                <a:latin typeface="Franklin Gothic Book"/>
              </a:rPr>
              <a:t>OLAP Query 2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41" name="Picture 2" descr=""/>
          <p:cNvPicPr/>
          <p:nvPr/>
        </p:nvPicPr>
        <p:blipFill>
          <a:blip r:embed="rId1"/>
          <a:stretch/>
        </p:blipFill>
        <p:spPr>
          <a:xfrm>
            <a:off x="2149560" y="1471680"/>
            <a:ext cx="4762440" cy="310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8600" y="1904760"/>
            <a:ext cx="8686800" cy="10666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3: </a:t>
            </a:r>
            <a:r>
              <a:rPr b="0" lang="en-US" sz="2000" spc="-1" strike="noStrike">
                <a:solidFill>
                  <a:srgbClr val="4e3b30"/>
                </a:solidFill>
                <a:latin typeface="Franklin Gothic Book"/>
              </a:rPr>
              <a:t>For each individual store, show separately for male and female shoppers the number of product units sold on workdays and on weekends/holidays</a:t>
            </a:r>
            <a:endParaRPr b="0" lang="en-US" sz="20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9FC93B7-BC24-4A24-8E78-4EDB40FBF11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a:t>
            </a:r>
            <a:br>
              <a:rPr sz="1800"/>
            </a:br>
            <a:r>
              <a:rPr b="1" lang="en-US" sz="1800" spc="-1" strike="noStrike">
                <a:solidFill>
                  <a:srgbClr val="4e3b30"/>
                </a:solidFill>
                <a:latin typeface="Franklin Gothic Book"/>
              </a:rPr>
              <a:t>OLAP Query 3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50C8268B-8B3A-44C9-87A1-3138D31577E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49"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B52EC9C-EEA9-45F1-BD2F-4C8D6E6CAAB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5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a:t>
            </a:r>
            <a:br>
              <a:rPr sz="1800"/>
            </a:br>
            <a:r>
              <a:rPr b="1" lang="en-US" sz="1800" spc="-1" strike="noStrike">
                <a:solidFill>
                  <a:srgbClr val="4e3b30"/>
                </a:solidFill>
                <a:latin typeface="Franklin Gothic Book"/>
              </a:rPr>
              <a:t>OLAP Query 3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53" name="Picture 2" descr=""/>
          <p:cNvPicPr/>
          <p:nvPr/>
        </p:nvPicPr>
        <p:blipFill>
          <a:blip r:embed="rId1"/>
          <a:stretch/>
        </p:blipFill>
        <p:spPr>
          <a:xfrm>
            <a:off x="2181240" y="1476360"/>
            <a:ext cx="4781520" cy="390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55"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ivot (Rotat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organizes the values displayed in the original query result by moving values of a dimension column from one axis to another</a:t>
            </a:r>
            <a:endParaRPr b="0" lang="en-US" sz="2000" spc="-1" strike="noStrike">
              <a:solidFill>
                <a:srgbClr val="4e3b30"/>
              </a:solidFill>
              <a:latin typeface="Franklin Gothic Book"/>
            </a:endParaRPr>
          </a:p>
        </p:txBody>
      </p:sp>
      <p:sp>
        <p:nvSpPr>
          <p:cNvPr id="25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C7E6DFB-39FF-4C8A-B78F-489033D0062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5D74A8E8-C909-411C-A0D2-F27A4ACA89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6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 Example </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1823177-CCB4-4822-A278-40857142D8C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calenda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alenda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ulldat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T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ofweek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typ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0),</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ofmonth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month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0),</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quarte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yea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PRIMARY KEY (calendarkey));</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store</a:t>
            </a:r>
            <a:br>
              <a:rPr sz="1600"/>
            </a:br>
            <a:r>
              <a:rPr b="1"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zip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region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siz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csystem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layou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PRIMARY KEY (store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194A053-53BB-4E1F-8506-B9D2B3C80F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6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 Example </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 </a:t>
            </a:r>
            <a:r>
              <a:rPr b="0" i="1" lang="en-US" sz="1800" spc="-1" strike="noStrike">
                <a:solidFill>
                  <a:srgbClr val="4e3b30"/>
                </a:solidFill>
                <a:latin typeface="Franklin Gothic Book"/>
              </a:rPr>
              <a:t>pivoted</a:t>
            </a:r>
            <a:endParaRPr b="0" lang="en-US" sz="1800" spc="-1" strike="noStrike">
              <a:solidFill>
                <a:srgbClr val="000000"/>
              </a:solidFill>
              <a:latin typeface="Arial"/>
            </a:endParaRPr>
          </a:p>
        </p:txBody>
      </p:sp>
      <p:pic>
        <p:nvPicPr>
          <p:cNvPr id="265" name="Picture 2" descr=""/>
          <p:cNvPicPr/>
          <p:nvPr/>
        </p:nvPicPr>
        <p:blipFill>
          <a:blip r:embed="rId1"/>
          <a:stretch/>
        </p:blipFill>
        <p:spPr>
          <a:xfrm>
            <a:off x="2176560" y="1495440"/>
            <a:ext cx="4790880" cy="3867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6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Dow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kes the granularity of the data in the query result </a:t>
            </a:r>
            <a:r>
              <a:rPr b="0" i="1" lang="en-US" sz="2000" spc="-1" strike="noStrike">
                <a:solidFill>
                  <a:srgbClr val="4e3b30"/>
                </a:solidFill>
                <a:latin typeface="Franklin Gothic Book"/>
              </a:rPr>
              <a:t>fin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U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kes the granularity of the data in the query result </a:t>
            </a:r>
            <a:r>
              <a:rPr b="0" i="1" lang="en-US" sz="2000" spc="-1" strike="noStrike">
                <a:solidFill>
                  <a:srgbClr val="4e3b30"/>
                </a:solidFill>
                <a:latin typeface="Franklin Gothic Book"/>
              </a:rPr>
              <a:t>coarser</a:t>
            </a:r>
            <a:br>
              <a:rPr sz="2000"/>
            </a:br>
            <a:r>
              <a:rPr b="0"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54AB497-63A7-4F98-A911-3AAA3FA0BC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7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hierarch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t of attributes within a dimension where an attribute is related to one or more attributes at a lower level but only related to one item at a higher leve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or example: </a:t>
            </a:r>
            <a:r>
              <a:rPr b="0" i="1" lang="nl-NL" sz="1800" spc="-1" strike="noStrike">
                <a:solidFill>
                  <a:srgbClr val="a5644e"/>
                </a:solidFill>
                <a:latin typeface="Franklin Gothic Book"/>
              </a:rPr>
              <a:t>StoreRegionName → StoreZip → StoreID</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drill down/drill up oper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0D5DE9C-9A07-4789-A431-1F3D434717E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28600" y="1904760"/>
            <a:ext cx="8686800" cy="10666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4: </a:t>
            </a:r>
            <a:r>
              <a:rPr b="0" lang="en-US" sz="2000" spc="-1" strike="noStrike">
                <a:solidFill>
                  <a:srgbClr val="4e3b30"/>
                </a:solidFill>
                <a:latin typeface="Franklin Gothic Book"/>
              </a:rPr>
              <a:t>For each individual store, show separately for male and female shoppers the number of product units sold for each individual product in each category.</a:t>
            </a:r>
            <a:endParaRPr b="0" lang="en-US" sz="2000" spc="-1" strike="noStrike">
              <a:solidFill>
                <a:srgbClr val="4e3b30"/>
              </a:solidFill>
              <a:latin typeface="Franklin Gothic Book"/>
            </a:endParaRPr>
          </a:p>
        </p:txBody>
      </p:sp>
      <p:sp>
        <p:nvSpPr>
          <p:cNvPr id="2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DF08958-4C16-4E2E-B9EF-1A0B84DC0B2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77"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a:t>
            </a:r>
            <a:br>
              <a:rPr sz="1800"/>
            </a:br>
            <a:r>
              <a:rPr b="1" lang="en-US" sz="1800" spc="-1" strike="noStrike">
                <a:solidFill>
                  <a:srgbClr val="4e3b30"/>
                </a:solidFill>
                <a:latin typeface="Franklin Gothic Book"/>
              </a:rPr>
              <a:t>OLAP Query 4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1F65D24-BEFB-4B8E-9A8F-4915D6FAE61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81" name="Picture 2" descr=""/>
          <p:cNvPicPr/>
          <p:nvPr/>
        </p:nvPicPr>
        <p:blipFill>
          <a:blip r:embed="rId1"/>
          <a:stretch/>
        </p:blipFill>
        <p:spPr>
          <a:xfrm>
            <a:off x="365040" y="1752480"/>
            <a:ext cx="4838760" cy="39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AF9CF84-CEFC-4D9D-B0E0-B1526EBE6AC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a:t>
            </a:r>
            <a:br>
              <a:rPr sz="1800"/>
            </a:br>
            <a:r>
              <a:rPr b="1" lang="en-US" sz="1800" spc="-1" strike="noStrike">
                <a:solidFill>
                  <a:srgbClr val="4e3b30"/>
                </a:solidFill>
                <a:latin typeface="Franklin Gothic Book"/>
              </a:rPr>
              <a:t>OLAP Query 4 - </a:t>
            </a:r>
            <a:r>
              <a:rPr b="0" lang="en-US" sz="1800" spc="-1" strike="noStrike">
                <a:solidFill>
                  <a:srgbClr val="4e3b30"/>
                </a:solidFill>
                <a:latin typeface="Franklin Gothic Book"/>
              </a:rPr>
              <a:t>Resul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2" descr=""/>
          <p:cNvPicPr/>
          <p:nvPr/>
        </p:nvPicPr>
        <p:blipFill>
          <a:blip r:embed="rId1"/>
          <a:stretch/>
        </p:blipFill>
        <p:spPr>
          <a:xfrm>
            <a:off x="365040" y="1471680"/>
            <a:ext cx="8363160" cy="4257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8F59F48-E73F-472E-B268-7F87D0C51BA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Up – Example </a:t>
            </a:r>
            <a:r>
              <a:rPr b="0" lang="en-US" sz="1800" spc="-1" strike="noStrike">
                <a:solidFill>
                  <a:srgbClr val="4e3b30"/>
                </a:solidFill>
                <a:latin typeface="Franklin Gothic Book"/>
              </a:rPr>
              <a:t>(Query 4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89" name="Picture 2" descr=""/>
          <p:cNvPicPr/>
          <p:nvPr/>
        </p:nvPicPr>
        <p:blipFill>
          <a:blip r:embed="rId1"/>
          <a:stretch/>
        </p:blipFill>
        <p:spPr>
          <a:xfrm>
            <a:off x="365040" y="1752480"/>
            <a:ext cx="4838760" cy="39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9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quire dimensional organization of underlying data for performing basic OLAP operations (slice, pivot, dril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dditional OLAP/BI Tool functionaliti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aphically visualizing the answer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reating and examining calculated dat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ermining comparative or relative differen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erforming exception analysis, trend analysis, forecasting, and regression analysi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umber of other analytical func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ny OLAP/BI tools are web-based</a:t>
            </a:r>
            <a:endParaRPr b="0" lang="en-US" sz="2000" spc="-1" strike="noStrike">
              <a:solidFill>
                <a:srgbClr val="4e3b30"/>
              </a:solidFill>
              <a:latin typeface="Franklin Gothic Book"/>
            </a:endParaRPr>
          </a:p>
        </p:txBody>
      </p:sp>
      <p:sp>
        <p:nvSpPr>
          <p:cNvPr id="2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7EEFA75-E09F-46D5-8E78-43119E26FD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2FB92DE-B232-43AB-BEED-6E4802FC004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9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esult Visualization Example</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9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7ECE913-0E69-4114-BB3C-0CEF5B73077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0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esult Visualization Example</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 visualized as a chart</a:t>
            </a:r>
            <a:endParaRPr b="0" lang="en-US" sz="1800" spc="-1" strike="noStrike">
              <a:solidFill>
                <a:srgbClr val="000000"/>
              </a:solidFill>
              <a:latin typeface="Arial"/>
            </a:endParaRPr>
          </a:p>
        </p:txBody>
      </p:sp>
      <p:pic>
        <p:nvPicPr>
          <p:cNvPr id="301" name="Picture 2" descr=""/>
          <p:cNvPicPr/>
          <p:nvPr/>
        </p:nvPicPr>
        <p:blipFill>
          <a:blip r:embed="rId1"/>
          <a:stretch/>
        </p:blipFill>
        <p:spPr>
          <a:xfrm>
            <a:off x="1233360" y="1252440"/>
            <a:ext cx="6677280" cy="43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CAC8AF5-79BF-40D5-92DB-760BB66FC0F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product</a:t>
            </a:r>
            <a:br>
              <a:rPr sz="1600"/>
            </a:br>
            <a:r>
              <a:rPr b="1"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pric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NUMBER(7,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vendor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category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PRIMARY KEY (productke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custome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id</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7),</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zip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gende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maritalstatus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educationlevel 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creditscore INT,</a:t>
            </a:r>
            <a:br>
              <a:rPr sz="1600"/>
            </a:br>
            <a:r>
              <a:rPr b="0" lang="en-US" sz="1600" spc="-1" strike="noStrike">
                <a:solidFill>
                  <a:srgbClr val="4e3b30"/>
                </a:solidFill>
                <a:latin typeface="Courier New"/>
                <a:ea typeface="Courier New"/>
              </a:rPr>
              <a:t>PRIMARY KEY (customerke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30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 </a:t>
            </a:r>
            <a:r>
              <a:rPr b="0" lang="en-US" sz="2400" spc="-1" strike="noStrike">
                <a:solidFill>
                  <a:srgbClr val="4e3b30"/>
                </a:solidFill>
                <a:latin typeface="Franklin Gothic Book"/>
              </a:rPr>
              <a:t>– two purpos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d-hoc direct analysis of dimensionally modeled data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reation of front-end (BI) applications </a:t>
            </a:r>
            <a:endParaRPr b="0" lang="en-US" sz="2000" spc="-1" strike="noStrike">
              <a:solidFill>
                <a:srgbClr val="4e3b30"/>
              </a:solidFill>
              <a:latin typeface="Franklin Gothic Book"/>
            </a:endParaRPr>
          </a:p>
        </p:txBody>
      </p:sp>
      <p:sp>
        <p:nvSpPr>
          <p:cNvPr id="30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AB8B5EB-74BF-41F7-B13B-23A02EF48A1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0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Data Mart Front-End (BI) Applic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 access for indirect use</a:t>
            </a:r>
            <a:endParaRPr b="0" lang="en-US" sz="20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A768087-C701-45C4-9E33-BAB7373720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11" name=""/>
          <p:cNvSpPr txBox="1"/>
          <p:nvPr/>
        </p:nvSpPr>
        <p:spPr>
          <a:xfrm>
            <a:off x="301680" y="1235160"/>
            <a:ext cx="8686800" cy="527040"/>
          </a:xfrm>
          <a:prstGeom prst="rect">
            <a:avLst/>
          </a:prstGeom>
          <a:noFill/>
          <a:ln w="0">
            <a:noFill/>
          </a:ln>
        </p:spPr>
        <p:txBody>
          <a:bodyPr anchor="t">
            <a:normAutofit/>
          </a:bodyPr>
          <a:p>
            <a:pPr marL="5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ing system with front-end applications</a:t>
            </a:r>
            <a:endParaRPr b="0" lang="en-US" sz="2000" spc="-1" strike="noStrike">
              <a:solidFill>
                <a:srgbClr val="4e3b30"/>
              </a:solidFill>
              <a:latin typeface="Franklin Gothic Book"/>
            </a:endParaRPr>
          </a:p>
        </p:txBody>
      </p:sp>
      <p:sp>
        <p:nvSpPr>
          <p:cNvPr id="3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505E5F9-320A-424F-ACB6-D1100144F2E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4" name="Picture 2" descr=""/>
          <p:cNvPicPr/>
          <p:nvPr/>
        </p:nvPicPr>
        <p:blipFill>
          <a:blip r:embed="rId1"/>
          <a:stretch/>
        </p:blipFill>
        <p:spPr>
          <a:xfrm>
            <a:off x="1066680" y="1670040"/>
            <a:ext cx="7278840" cy="493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B684865-6A36-48B3-B7B2-7EA91DAAEC8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7"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collection of data warehouse front-end applications</a:t>
            </a:r>
            <a:endParaRPr b="0" lang="en-US" sz="1900" spc="-1" strike="noStrike">
              <a:solidFill>
                <a:srgbClr val="000000"/>
              </a:solidFill>
              <a:latin typeface="Arial"/>
            </a:endParaRPr>
          </a:p>
        </p:txBody>
      </p:sp>
      <p:pic>
        <p:nvPicPr>
          <p:cNvPr id="318" name="Picture 2" descr=""/>
          <p:cNvPicPr/>
          <p:nvPr/>
        </p:nvPicPr>
        <p:blipFill>
          <a:blip r:embed="rId1"/>
          <a:stretch/>
        </p:blipFill>
        <p:spPr>
          <a:xfrm>
            <a:off x="1419120" y="1538280"/>
            <a:ext cx="6305760" cy="3781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5195EAD-AB3A-4918-B8B9-A70E7FD6AE0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1"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data warehouse front-end application</a:t>
            </a:r>
            <a:endParaRPr b="0" lang="en-US" sz="1900" spc="-1" strike="noStrike">
              <a:solidFill>
                <a:srgbClr val="000000"/>
              </a:solidFill>
              <a:latin typeface="Arial"/>
            </a:endParaRPr>
          </a:p>
        </p:txBody>
      </p:sp>
      <p:pic>
        <p:nvPicPr>
          <p:cNvPr id="322" name="Picture 2" descr=""/>
          <p:cNvPicPr/>
          <p:nvPr/>
        </p:nvPicPr>
        <p:blipFill>
          <a:blip r:embed="rId1"/>
          <a:stretch/>
        </p:blipFill>
        <p:spPr>
          <a:xfrm>
            <a:off x="1224000" y="1380960"/>
            <a:ext cx="6696000" cy="4096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9150087-4C0B-4398-9314-66CCED8B6CC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5"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predeveloped data warehouse query</a:t>
            </a:r>
            <a:endParaRPr b="0" lang="en-US" sz="1900" spc="-1" strike="noStrike">
              <a:solidFill>
                <a:srgbClr val="000000"/>
              </a:solidFill>
              <a:latin typeface="Arial"/>
            </a:endParaRPr>
          </a:p>
        </p:txBody>
      </p:sp>
      <p:pic>
        <p:nvPicPr>
          <p:cNvPr id="326" name="Picture 2" descr=""/>
          <p:cNvPicPr/>
          <p:nvPr/>
        </p:nvPicPr>
        <p:blipFill>
          <a:blip r:embed="rId1"/>
          <a:stretch/>
        </p:blipFill>
        <p:spPr>
          <a:xfrm>
            <a:off x="77760" y="1143000"/>
            <a:ext cx="9031320" cy="3932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050AFA1-4148-4F94-B8C6-61705C133AE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9"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The results of selecting particular parameter values in the interface to the predeveloped data warehouse query</a:t>
            </a:r>
            <a:endParaRPr b="0" lang="en-US" sz="1900" spc="-1" strike="noStrike">
              <a:solidFill>
                <a:srgbClr val="000000"/>
              </a:solidFill>
              <a:latin typeface="Arial"/>
            </a:endParaRPr>
          </a:p>
        </p:txBody>
      </p:sp>
      <p:pic>
        <p:nvPicPr>
          <p:cNvPr id="330" name="Picture 2" descr=""/>
          <p:cNvPicPr/>
          <p:nvPr/>
        </p:nvPicPr>
        <p:blipFill>
          <a:blip r:embed="rId1"/>
          <a:stretch/>
        </p:blipFill>
        <p:spPr>
          <a:xfrm>
            <a:off x="671400" y="1066680"/>
            <a:ext cx="7801200" cy="5543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3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ecutive dashboar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tended for use by higher level decision makers within an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s an organized easy-to-read display of a number of critically important queries describing the performance of the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general, the usage of executive dashboards should require little or no effort or training</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ecutive dashboards can be web-based</a:t>
            </a:r>
            <a:endParaRPr b="0" lang="en-US" sz="2000" spc="-1" strike="noStrike">
              <a:solidFill>
                <a:srgbClr val="4e3b30"/>
              </a:solidFill>
              <a:latin typeface="Franklin Gothic Book"/>
            </a:endParaRPr>
          </a:p>
        </p:txBody>
      </p:sp>
      <p:sp>
        <p:nvSpPr>
          <p:cNvPr id="3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FE401AD-3066-4311-BBF4-86AC5DD29DE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844568C-F3D6-49DE-A220-43B3E3E891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37"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Executive Dashboard</a:t>
            </a:r>
            <a:endParaRPr b="0" lang="en-US" sz="1900" spc="-1" strike="noStrike">
              <a:solidFill>
                <a:srgbClr val="000000"/>
              </a:solidFill>
              <a:latin typeface="Arial"/>
            </a:endParaRPr>
          </a:p>
        </p:txBody>
      </p:sp>
      <p:pic>
        <p:nvPicPr>
          <p:cNvPr id="338" name="Picture 2" descr=""/>
          <p:cNvPicPr/>
          <p:nvPr/>
        </p:nvPicPr>
        <p:blipFill>
          <a:blip r:embed="rId1"/>
          <a:stretch/>
        </p:blipFill>
        <p:spPr>
          <a:xfrm>
            <a:off x="504720" y="387360"/>
            <a:ext cx="8320320" cy="6205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DEPLOYMENT</a:t>
            </a:r>
            <a:endParaRPr b="0" lang="en-US" sz="3200" spc="-1" strike="noStrike">
              <a:solidFill>
                <a:srgbClr val="4e3b30"/>
              </a:solidFill>
              <a:latin typeface="Franklin Gothic Medium"/>
            </a:endParaRPr>
          </a:p>
        </p:txBody>
      </p:sp>
      <p:sp>
        <p:nvSpPr>
          <p:cNvPr id="3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deploymen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easing the created and populated data warehouse and its front-end (BI) applications for use by the end-use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lpha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ternal deployment of a system to the members of the development team for initial testing of its functionaliti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eta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ployment of a system to a selected group of users to test the usability of the system</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Production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actual deployment of a functioning system</a:t>
            </a:r>
            <a:endParaRPr b="0" lang="en-US" sz="1800" spc="-1" strike="noStrike">
              <a:solidFill>
                <a:srgbClr val="4e3b30"/>
              </a:solidFill>
              <a:latin typeface="Franklin Gothic Book"/>
            </a:endParaRPr>
          </a:p>
        </p:txBody>
      </p:sp>
      <p:sp>
        <p:nvSpPr>
          <p:cNvPr id="3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54DCA0A-3803-4FC9-B531-72B40106C7D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1E450D9-B87C-4D8C-98B0-3775A933B7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sales</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alenda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meofda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M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ollarssol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NUMBER(10,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unitssol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IMARY KEY (productkey, tid),</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calendarkey) REFERENCES calenda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storekey) REFERENCES stor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productkey) REFERENCES produc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customerkey) REFERENCES 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traction - </a:t>
            </a:r>
            <a:r>
              <a:rPr b="0" lang="en-US" sz="2400" spc="-1" strike="noStrike">
                <a:solidFill>
                  <a:srgbClr val="4e3b30"/>
                </a:solidFill>
                <a:latin typeface="Franklin Gothic Book"/>
              </a:rPr>
              <a:t>the retrieval of analytically useful data from the operational data sources that will eventually be loaded into the data warehouse</a:t>
            </a:r>
            <a:endParaRPr b="0" lang="en-US" sz="24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to be extracted is data that is analytically useful in the data warehouse</a:t>
            </a:r>
            <a:endParaRPr b="0" lang="en-US" sz="20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at to extract is determined within the requirements and modeling stages</a:t>
            </a:r>
            <a:endParaRPr b="0" lang="en-US" sz="20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quirements and modeling stages of the data warehouse include the examination of the available sources</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uring the process of creation of the ETL infrastructure the data model provides a blueprint for the extraction procedures</a:t>
            </a:r>
            <a:endParaRPr b="0" lang="en-US" sz="18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DB01A5C-D2A2-4D6F-8E38-356C17E8F2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5"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formation</a:t>
            </a:r>
            <a:r>
              <a:rPr b="0" lang="en-US" sz="2400" spc="-1" strike="noStrike">
                <a:solidFill>
                  <a:srgbClr val="4e3b30"/>
                </a:solidFill>
                <a:latin typeface="Franklin Gothic Book"/>
              </a:rPr>
              <a:t>  -  transforming the structure of extracted data in order to fit the structure of the target data warehouse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g. adding surrogate key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2A79C05-CCD7-4D5D-91C9-46352634017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formation</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quality control and improvement are included in the transformation proces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mmonly, some of the data in the data sources exhibit data quality proble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sources often contain overlapping information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cleansing (scrubbing) </a:t>
            </a:r>
            <a:r>
              <a:rPr b="0" lang="en-US" sz="2000" spc="-1" strike="noStrike">
                <a:solidFill>
                  <a:srgbClr val="4e3b30"/>
                </a:solidFill>
                <a:latin typeface="Franklin Gothic Book"/>
              </a:rPr>
              <a:t>- the detection and correction of low-quality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257F55B-3CA5-49E3-A4CC-7CD1FC401DF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Jukic</cp:lastModifiedBy>
  <dcterms:modified xsi:type="dcterms:W3CDTF">2014-04-21T18:35:35Z</dcterms:modified>
  <cp:revision>99</cp:revision>
  <dc:subject/>
  <dc:title>CHAPTER 1 - Introduction</dc:title>
</cp:coreProperties>
</file>