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4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8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EEEA-A7E5-4954-995E-0E54BBC6F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F3E0-FA48-424E-829B-BED762BEC9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E169-E907-4B47-B18C-FF5C1F4E54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F8C6-ACAD-477D-B2AD-52AA8BA14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59-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1949-2E19-4CD6-93C3-4506DCB64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BBF7-338B-4DC3-86E4-3C07D9E42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60-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7EF0-9DC9-4FFB-876B-A432828DE5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60-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6078-7BB0-4BA3-B048-1E9C12BFC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9E6C-A757-43B8-B2B9-F084A788E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22C6-7613-4DE2-B8FD-881E2DA51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D847-9C8D-4C15-BD6B-1D8E810E1C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database requirements are collected and visualized as an ER diagram, the next step in creating a relational database is to map (convert) the ER diagram into a relational sche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2506-1427-441B-A41A-115E34F9F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0E88-D5CF-4AFB-AC95-9C9E3A1F7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6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7DBC-5887-4C87-A0D6-9AE036409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A8EC-D313-4DFA-8485-F7C8AC983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6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27A7-6AE0-43AD-9F4F-AD984F828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6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A9EE-8317-486E-A410-6EB674479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C029-1989-4835-8951-C8077A492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452A-B323-4CD4-AAA1-C57D996CE8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6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7108-C12E-49C8-A5AB-CAB892644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6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C12E-9A5E-42CA-908D-366C46CA2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6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E2A5-F61B-489F-8DF2-73D7C0CF3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7490-1615-450A-B59A-FF824319C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6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CD7D-B6BE-4F2D-A065-4576FDF94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6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20BA-4AD7-438C-96DE-1B75F1460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7E3A-F69D-49B4-8BA0-C999F7592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6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19B3-736B-4EA1-A52E-2F6A00BB5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6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4124-4FEF-42FC-A7D1-C6F06850A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67-6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8BCB-08CA-40A1-9E66-6261DBAB1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whenever there is a choice between an optional and a mandatory foreign key, choosing the mandatory foreign key is recommen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4329-BAB2-461E-B6D3-ABED8AB0B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6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B7AC-CB1E-45A8-B233-2D61A2B0C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C6D3-C3B8-4EF0-AF6C-FEC87A6B0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6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6314-7E1A-419D-A96E-D45EA7FCF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C428-DF17-49A0-A74E-98A2137D9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6728-21DD-46F7-A317-628E56BB5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7C33-5D55-4BF3-BFFF-783EB80EF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0D19-0AB8-4FC8-864E-614D4E98B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ntity can have more than one unique attribute.  In such cases each unique attribute is also called a candidate k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9C7F-A21D-4AAB-9878-BFD437E25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7997-FED8-470D-847D-6C619E319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9106-D9DA-41A0-966B-D3DB23B6A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22C8-A955-48DB-A37E-51FA252D1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3E72-5BE6-4A6E-BD54-0FA748761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B71E-0A2F-49FD-B8DC-8A4C35B01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B48C-6609-4086-B70B-657A3CAFF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DC61-77EA-4A9D-B182-CBEF4FD99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6932-A026-4074-A211-07C8B256B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460B-0282-4EC7-82A6-77587DABA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8D25-919C-454E-B85E-0A3EF53F9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0BD5-1873-4090-B05A-1F776B12B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EC4C-0795-4058-88EF-752B861C5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BE94-D430-4E87-94EC-60F265405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7B2E-C93B-46B2-8B4C-59CE8A9FD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DD6E-DC3C-4C44-AD04-1E517B63C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BCEE-1CAA-4FE2-9B13-3CCB90AD5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not unusual for the same entities in an ER diagram to be related via more than one relationsh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A5AC-1454-4C45-90E4-D6B00E937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D3E0-787F-4F7C-B46E-9DC1F97C4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077E-4D63-48E7-B522-A8EE441472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542C-30AF-4987-899D-3C4037EF8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A8BC-4A8C-428E-A71E-98A2AF745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CA71-DC92-4802-B179-56BC6FB63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C1D8-1892-4ABB-A4DF-E43A7F36B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9C75-26A8-4E16-B89A-51E1A69C6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B64B-1D01-47DF-ACCF-8AAB51897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F6CC-EE71-43FB-9BD5-64B5FCAC6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F36F-E432-44B3-AD19-8E6493F35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2473-15A3-4280-8856-985B46C58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58-5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8450-609C-4C20-A76A-B7F1B8A44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EB6A-98A7-417E-AF8E-46023CF08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2ABE-754D-4694-8521-C246E7A5A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8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0295-C670-4B84-871A-4A38ECF6A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58D6-178E-4BC7-B747-7E45B0AEB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81-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7477-AA66-4B54-A023-6447384BA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217F-BAF2-4F5F-A77E-812BED21F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4CAB-094F-4839-8749-A8F6151FF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5BAF-F203-4F1B-9802-6E8804D6C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2B0A-025A-4117-AA7A-78B95A4A5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6890A-F09B-4088-A855-69E029003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993C2-9F27-4B6B-BECE-8812E0776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E5D11-B947-4234-BB8C-56A37C2C5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9B9CF-A814-4494-9CE5-CFF296E6B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20A2B-309B-45EE-8A99-2344C7BD0F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D50C1-C7BF-47A2-BD01-E79F47BF0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04E59-5FF0-418A-9A13-4C0A89C40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99BC9-F804-4235-A82D-0519DC2CD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DEB40-CA26-4DDE-9A4E-64E5A262A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EDF63-E718-45D6-86CE-6DA7B7E26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DD064-F91D-4AF5-A122-4F679475D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50F7D-452C-468F-B19C-6E8A91BB3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4e3b3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4e3b3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4e3b3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4e3b3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9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7924320" y="662904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AF94DD3A-3454-4846-B816-64A697D31F96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Footer Placeholder 3"/>
          <p:cNvSpPr/>
          <p:nvPr/>
        </p:nvSpPr>
        <p:spPr>
          <a:xfrm>
            <a:off x="3657600" y="6629400"/>
            <a:ext cx="259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Copyright (c) 2014 Pearson Education, Inc</a:t>
            </a: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Footer Placeholder 3"/>
          <p:cNvSpPr/>
          <p:nvPr/>
        </p:nvSpPr>
        <p:spPr>
          <a:xfrm>
            <a:off x="3657600" y="6629400"/>
            <a:ext cx="259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Copyright (c) 2014 Pearson Education, Inc</a:t>
            </a: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Straight Connector 14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1" name="Straight Connector 14" descr=""/>
            <p:cNvPicPr/>
            <p:nvPr/>
          </p:nvPicPr>
          <p:blipFill>
            <a:blip r:embed="rId6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4e3b3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4e3b3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4e3b3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4e3b3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8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225360" y="4853160"/>
            <a:ext cx="8613720" cy="1223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Database Systems -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Introduction to Databases and Data Warehous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PRIMARY KEY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6F3371C2-1217-4BAF-817B-65EA9BDFCD6F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Relation with the primary key underline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625760" y="2286000"/>
            <a:ext cx="5962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Medium"/>
              </a:rPr>
              <a:t>MAPPING ER DIAGRAMS INTO RELATIONAL SCHEMAS</a:t>
            </a:r>
            <a:br>
              <a:rPr sz="2900"/>
            </a:b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Once an ER diagram is constructed, it is subsequently mapped into a relational schema (collection of relations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17D03D9E-C32A-4F4C-AD91-8706BDC3AB66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ENTIT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entities into relation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ach regular entity becomes a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ach regular attribute of a regular entity becomes a column of the newly created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f an entity has a single unique attribute, then that attribute becomes the primary key in the resulting mapped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02850B93-0ABE-4F34-AE0A-D49EE8625885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ENTIT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218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ntity mapped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into a relation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C7EA9740-CE5A-4169-87A2-7BF59FDFA75F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631960" y="1143000"/>
            <a:ext cx="4572000" cy="3495600"/>
          </a:xfrm>
          <a:prstGeom prst="rect">
            <a:avLst/>
          </a:prstGeom>
          <a:ln w="0">
            <a:noFill/>
          </a:ln>
        </p:spPr>
      </p:pic>
      <p:sp>
        <p:nvSpPr>
          <p:cNvPr id="163" name="Content Placeholder 2"/>
          <p:cNvSpPr/>
          <p:nvPr/>
        </p:nvSpPr>
        <p:spPr>
          <a:xfrm>
            <a:off x="304920" y="495288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2819520" y="4791240"/>
            <a:ext cx="3408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Medium"/>
              </a:rPr>
              <a:t>MAPPING ENTITIES WITH COMPOSITE ATTRIBUTES</a:t>
            </a:r>
            <a:br>
              <a:rPr sz="2900"/>
            </a:b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entities with composite attributes into relation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ach component of a composite attribute is mapped as a column of a relation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e composite attribute itself does not appear in the mapped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74A1144F-7123-4EF5-B30B-E8391F20527E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Medium"/>
              </a:rPr>
              <a:t>MAPPING ENTITIES WITH COMPOSITE ATTRIBUTES</a:t>
            </a:r>
            <a:br>
              <a:rPr sz="2900"/>
            </a:b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218960"/>
            <a:ext cx="2286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ntity with a composite attribute mapped into a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D823FB88-9DA6-4402-8AA2-2245F7BEF2FF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tent Placeholder 2"/>
          <p:cNvSpPr/>
          <p:nvPr/>
        </p:nvSpPr>
        <p:spPr>
          <a:xfrm>
            <a:off x="304920" y="4952880"/>
            <a:ext cx="2286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 mapped 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2978280" y="1162080"/>
            <a:ext cx="4098960" cy="3565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3022560" y="4807080"/>
            <a:ext cx="4078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Medium"/>
              </a:rPr>
              <a:t>MAPPING ENTITIES WITH COMPOSITE ATTRIBUTES</a:t>
            </a:r>
            <a:br>
              <a:rPr sz="2900"/>
            </a:b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2666880"/>
            <a:ext cx="2286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e3b30"/>
                </a:solidFill>
                <a:latin typeface="Franklin Gothic Book"/>
              </a:rPr>
              <a:t>The mapped relation as presented to a user in a front-end application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1DED93EE-6B40-4C1F-A992-21F5C54AF349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407844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COMPOSITE PRIMARY KEY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Composite primary key -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 primary key that is composed of multiple column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Column names of a composite primary key are underlined, because combined together they form the primary key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0F56EEDB-D20B-45F7-BFC2-55B4984F3766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Medium"/>
              </a:rPr>
              <a:t>MAPPING ENTITIES WITH UNIQUE COMPOSITE ATTRIBUTES</a:t>
            </a:r>
            <a:br>
              <a:rPr sz="2900"/>
            </a:b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entities with unique composite attributes into relation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n entity whose only unique attribute is a composite attribute is mapped as a relation with a composite primary ke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DBFB1037-F4BB-4CB3-AA7D-347B8AAF13CF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Medium"/>
              </a:rPr>
              <a:t>MAPPING ENTITIES WITH UNIQUE COMPOSITE ATTRIBUTES</a:t>
            </a:r>
            <a:br>
              <a:rPr sz="2900"/>
            </a:b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8960"/>
            <a:ext cx="2286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ntity with a unique composite attribute mapped into a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72D7459D-41F2-41F8-8D74-341D747AD9C1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ontent Placeholder 2"/>
          <p:cNvSpPr/>
          <p:nvPr/>
        </p:nvSpPr>
        <p:spPr>
          <a:xfrm>
            <a:off x="304920" y="4952880"/>
            <a:ext cx="2286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mapped 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2954160" y="1066680"/>
            <a:ext cx="3554640" cy="3657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3200400" y="4824360"/>
            <a:ext cx="2801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INTRODUC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Relational database model -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logical database model that represents a database as a collection of related tabl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Relational schema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- visual depiction of the relational database mod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Most contemporary commercial DBMS software packages, are 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relational DBMS (RDBMS)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oftware packag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2DA07A44-2069-459A-BA0A-746DCEA3C471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ENTITIES WITH OPTIONAL ATTRIBUT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entities with optional attributes into relation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Optional attribute of an entity is mapped as an optional colum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3BC8722E-0051-4F22-B96E-C0617E4A66B3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ENTITIES WITH OPTIONAL ATTRIBUT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218960"/>
            <a:ext cx="2286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ntity with an optional attribute mapped into a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10BDAC80-1D72-44FC-952D-818F2A630E10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ontent Placeholder 2"/>
          <p:cNvSpPr/>
          <p:nvPr/>
        </p:nvSpPr>
        <p:spPr>
          <a:xfrm>
            <a:off x="304920" y="4952880"/>
            <a:ext cx="2286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 mapped 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4481640" cy="3657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3429000" y="4775040"/>
            <a:ext cx="24019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ENTITY INTEGRITY CONSTRAINT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Entity integrity constraint -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in a relational table, no primary key column can have null (empty) valu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 rule stating that no primary key column can be optiona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very RBMS enforces this rul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34EDA2E7-5ABF-4690-9377-079112BBC7E2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ENTITY INTEGRITY CONSTRAINT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560" y="15541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ntity integrity constraint — compliance and violation exampl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0720F92C-4FB2-4BBD-87A2-DF00BBB17D2C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671508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ENTITY INTEGRITY CONSTRAINT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554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ntity integrity constraint — another compliance and violation exampl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7B9DA351-E204-4A90-847E-E9BB4E60786B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635040" y="2666880"/>
            <a:ext cx="79246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OREIGN KEY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Foreign key -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column in a relation that refers to a primary key column in another (referred) rel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 mechanism that is used to depict relationships in the relational database mod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or every occurrence of a foreign key, the relational schema contains a line pointing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from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the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foreign key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o the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corresponding primary ke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A4E36DAC-D8A8-468B-A76E-537FBE1BEB6B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1:M relationship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The relation mapped from the </a:t>
            </a:r>
            <a:r>
              <a:rPr b="1" i="1" lang="en-US" sz="2000" spc="-1" strike="noStrike">
                <a:solidFill>
                  <a:srgbClr val="4e3b30"/>
                </a:solidFill>
                <a:latin typeface="Franklin Gothic Book"/>
              </a:rPr>
              <a:t>entity on the M side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of the 1:M  relationship </a:t>
            </a:r>
            <a:r>
              <a:rPr b="1" i="1" lang="en-US" sz="2000" spc="-1" strike="noStrike">
                <a:solidFill>
                  <a:srgbClr val="4e3b30"/>
                </a:solidFill>
                <a:latin typeface="Franklin Gothic Book"/>
              </a:rPr>
              <a:t>has a foreign key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that corresponds to the primary key of the relation mapped from the 1 side of the 1:M relationship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085601FF-ED44-4405-BF19-5F960C768F55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17990E42-1AE2-42F2-83CC-83B2BC515585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219320"/>
            <a:ext cx="18288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xample - Mapping a 1:M relationship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Content Placeholder 2"/>
          <p:cNvSpPr/>
          <p:nvPr/>
        </p:nvSpPr>
        <p:spPr>
          <a:xfrm>
            <a:off x="304920" y="4952880"/>
            <a:ext cx="2286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 mapped ER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2039760" y="1117440"/>
            <a:ext cx="7040880" cy="308628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8"/>
          <p:cNvGrpSpPr/>
          <p:nvPr/>
        </p:nvGrpSpPr>
        <p:grpSpPr>
          <a:xfrm>
            <a:off x="2616120" y="4724280"/>
            <a:ext cx="4078440" cy="1646280"/>
            <a:chOff x="2616120" y="4724280"/>
            <a:chExt cx="4078440" cy="1646280"/>
          </a:xfrm>
        </p:grpSpPr>
        <p:pic>
          <p:nvPicPr>
            <p:cNvPr id="236" name="Picture 4" descr=""/>
            <p:cNvPicPr/>
            <p:nvPr/>
          </p:nvPicPr>
          <p:blipFill>
            <a:blip r:embed="rId2"/>
            <a:stretch/>
          </p:blipFill>
          <p:spPr>
            <a:xfrm>
              <a:off x="2616120" y="4724280"/>
              <a:ext cx="2266200" cy="164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5" descr=""/>
            <p:cNvPicPr/>
            <p:nvPr/>
          </p:nvPicPr>
          <p:blipFill>
            <a:blip r:embed="rId3"/>
            <a:stretch/>
          </p:blipFill>
          <p:spPr>
            <a:xfrm>
              <a:off x="4882320" y="4724280"/>
              <a:ext cx="1812240" cy="1189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E45091EF-76AD-4008-8559-B919DF3D1AE1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219320"/>
            <a:ext cx="18288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xample - Mapping a 1:M relationship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e3b30"/>
                </a:solidFill>
                <a:latin typeface="Franklin Gothic Book"/>
              </a:rPr>
              <a:t>Mandatory participation on both sides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Content Placeholder 2"/>
          <p:cNvSpPr/>
          <p:nvPr/>
        </p:nvSpPr>
        <p:spPr>
          <a:xfrm>
            <a:off x="304920" y="4952880"/>
            <a:ext cx="2286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 mapped ER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2039760" y="1117440"/>
            <a:ext cx="7040880" cy="308628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2"/>
          <p:cNvGrpSpPr/>
          <p:nvPr/>
        </p:nvGrpSpPr>
        <p:grpSpPr>
          <a:xfrm>
            <a:off x="2616120" y="4724280"/>
            <a:ext cx="4078440" cy="1646280"/>
            <a:chOff x="2616120" y="4724280"/>
            <a:chExt cx="4078440" cy="1646280"/>
          </a:xfrm>
        </p:grpSpPr>
        <p:pic>
          <p:nvPicPr>
            <p:cNvPr id="245" name="Picture 4" descr=""/>
            <p:cNvPicPr/>
            <p:nvPr/>
          </p:nvPicPr>
          <p:blipFill>
            <a:blip r:embed="rId2"/>
            <a:stretch/>
          </p:blipFill>
          <p:spPr>
            <a:xfrm>
              <a:off x="2616120" y="4724280"/>
              <a:ext cx="2266200" cy="164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" descr=""/>
            <p:cNvPicPr/>
            <p:nvPr/>
          </p:nvPicPr>
          <p:blipFill>
            <a:blip r:embed="rId3"/>
            <a:stretch/>
          </p:blipFill>
          <p:spPr>
            <a:xfrm>
              <a:off x="4882320" y="4724280"/>
              <a:ext cx="1812240" cy="1189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6B3FD5A6-C5C2-424E-BB1A-D7A12379299A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218960"/>
            <a:ext cx="1828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xample - Mapping a 1:M relationship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e3b30"/>
                </a:solidFill>
                <a:latin typeface="Franklin Gothic Book"/>
              </a:rPr>
              <a:t>Optional participation on the 1 side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Content Placeholder 2"/>
          <p:cNvSpPr/>
          <p:nvPr/>
        </p:nvSpPr>
        <p:spPr>
          <a:xfrm>
            <a:off x="304920" y="4952880"/>
            <a:ext cx="2286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 mapped ER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2038320" y="1116000"/>
            <a:ext cx="7042320" cy="307800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2"/>
          <p:cNvGrpSpPr/>
          <p:nvPr/>
        </p:nvGrpSpPr>
        <p:grpSpPr>
          <a:xfrm>
            <a:off x="2651040" y="4724280"/>
            <a:ext cx="4043520" cy="1613160"/>
            <a:chOff x="2651040" y="4724280"/>
            <a:chExt cx="4043520" cy="1613160"/>
          </a:xfrm>
        </p:grpSpPr>
        <p:pic>
          <p:nvPicPr>
            <p:cNvPr id="254" name="Picture 5" descr=""/>
            <p:cNvPicPr/>
            <p:nvPr/>
          </p:nvPicPr>
          <p:blipFill>
            <a:blip r:embed="rId2"/>
            <a:stretch/>
          </p:blipFill>
          <p:spPr>
            <a:xfrm>
              <a:off x="4881960" y="4724280"/>
              <a:ext cx="1812600" cy="11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5" descr=""/>
            <p:cNvPicPr/>
            <p:nvPr/>
          </p:nvPicPr>
          <p:blipFill>
            <a:blip r:embed="rId3"/>
            <a:stretch/>
          </p:blipFill>
          <p:spPr>
            <a:xfrm>
              <a:off x="2651040" y="4727160"/>
              <a:ext cx="2232360" cy="161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INTRODUC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erminolog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5D47D7C0-E691-47DF-873D-5719140C2C0C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09600" y="2895480"/>
            <a:ext cx="85248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7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D9185E2B-9C9D-4241-93F3-DC44D7C0BCB9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219320"/>
            <a:ext cx="18288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xample - Mapping a 1:M relationship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e3b30"/>
                </a:solidFill>
                <a:latin typeface="Franklin Gothic Book"/>
              </a:rPr>
              <a:t>Optional participation on</a:t>
            </a:r>
            <a:br>
              <a:rPr sz="1800"/>
            </a:br>
            <a:r>
              <a:rPr b="1" i="1" lang="en-US" sz="1800" spc="-1" strike="noStrike">
                <a:solidFill>
                  <a:srgbClr val="4e3b30"/>
                </a:solidFill>
                <a:latin typeface="Franklin Gothic Book"/>
              </a:rPr>
              <a:t>the M side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Content Placeholder 2"/>
          <p:cNvSpPr/>
          <p:nvPr/>
        </p:nvSpPr>
        <p:spPr>
          <a:xfrm>
            <a:off x="304920" y="4952880"/>
            <a:ext cx="2286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 mapped ER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2038320" y="1116000"/>
            <a:ext cx="7108920" cy="309096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2"/>
          <p:cNvGrpSpPr/>
          <p:nvPr/>
        </p:nvGrpSpPr>
        <p:grpSpPr>
          <a:xfrm>
            <a:off x="2616120" y="4724280"/>
            <a:ext cx="4076640" cy="1646280"/>
            <a:chOff x="2616120" y="4724280"/>
            <a:chExt cx="4076640" cy="1646280"/>
          </a:xfrm>
        </p:grpSpPr>
        <p:pic>
          <p:nvPicPr>
            <p:cNvPr id="263" name="Picture 4" descr=""/>
            <p:cNvPicPr/>
            <p:nvPr/>
          </p:nvPicPr>
          <p:blipFill>
            <a:blip r:embed="rId2"/>
            <a:stretch/>
          </p:blipFill>
          <p:spPr>
            <a:xfrm>
              <a:off x="2616120" y="4724280"/>
              <a:ext cx="2266200" cy="164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3" descr=""/>
            <p:cNvPicPr/>
            <p:nvPr/>
          </p:nvPicPr>
          <p:blipFill>
            <a:blip r:embed="rId3"/>
            <a:stretch/>
          </p:blipFill>
          <p:spPr>
            <a:xfrm>
              <a:off x="4882680" y="4727160"/>
              <a:ext cx="1810080" cy="140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F5DCF121-B5FA-43B6-9FCE-32287321A435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219320"/>
            <a:ext cx="18288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xample - Mapping a 1:M relationship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e3b30"/>
                </a:solidFill>
                <a:latin typeface="Franklin Gothic Book"/>
              </a:rPr>
              <a:t>Renaming a foreign key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Content Placeholder 2"/>
          <p:cNvSpPr/>
          <p:nvPr/>
        </p:nvSpPr>
        <p:spPr>
          <a:xfrm>
            <a:off x="304920" y="4952880"/>
            <a:ext cx="2286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 mapped ER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2038320" y="1116000"/>
            <a:ext cx="7070760" cy="309096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2"/>
          <p:cNvGrpSpPr/>
          <p:nvPr/>
        </p:nvGrpSpPr>
        <p:grpSpPr>
          <a:xfrm>
            <a:off x="2603520" y="4662360"/>
            <a:ext cx="4603680" cy="1463760"/>
            <a:chOff x="2603520" y="4662360"/>
            <a:chExt cx="4603680" cy="1463760"/>
          </a:xfrm>
        </p:grpSpPr>
        <p:pic>
          <p:nvPicPr>
            <p:cNvPr id="272" name="Picture 4" descr=""/>
            <p:cNvPicPr/>
            <p:nvPr/>
          </p:nvPicPr>
          <p:blipFill>
            <a:blip r:embed="rId2"/>
            <a:stretch/>
          </p:blipFill>
          <p:spPr>
            <a:xfrm>
              <a:off x="2603520" y="4662360"/>
              <a:ext cx="284148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" descr=""/>
            <p:cNvPicPr/>
            <p:nvPr/>
          </p:nvPicPr>
          <p:blipFill>
            <a:blip r:embed="rId3"/>
            <a:stretch/>
          </p:blipFill>
          <p:spPr>
            <a:xfrm>
              <a:off x="5445000" y="4662360"/>
              <a:ext cx="1762200" cy="128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M:N relationship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In addition to the two relations representing the two entities involved in the M:N relationship, </a:t>
            </a:r>
            <a:r>
              <a:rPr b="1" i="1" lang="en-US" sz="2000" spc="-1" strike="noStrike">
                <a:solidFill>
                  <a:srgbClr val="4e3b30"/>
                </a:solidFill>
                <a:latin typeface="Franklin Gothic Book"/>
              </a:rPr>
              <a:t>another relation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is created to </a:t>
            </a:r>
            <a:r>
              <a:rPr b="1" i="1" lang="en-US" sz="2000" spc="-1" strike="noStrike">
                <a:solidFill>
                  <a:srgbClr val="4e3b30"/>
                </a:solidFill>
                <a:latin typeface="Franklin Gothic Book"/>
              </a:rPr>
              <a:t>represent the M:N relationship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 itself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This new relation has </a:t>
            </a:r>
            <a:r>
              <a:rPr b="1" i="1" lang="en-US" sz="2000" spc="-1" strike="noStrike">
                <a:solidFill>
                  <a:srgbClr val="4e3b30"/>
                </a:solidFill>
                <a:latin typeface="Franklin Gothic Book"/>
              </a:rPr>
              <a:t>two foreign keys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, corresponding to the primary keys of the two relations representing the two entities involved in the M:N relationship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The </a:t>
            </a:r>
            <a:r>
              <a:rPr b="1" i="1" lang="en-US" sz="2000" spc="-1" strike="noStrike">
                <a:solidFill>
                  <a:srgbClr val="4e3b30"/>
                </a:solidFill>
                <a:latin typeface="Franklin Gothic Book"/>
              </a:rPr>
              <a:t>two foreign keys form the composite primary key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of the new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FB9EDAF8-93FA-4FB0-93DE-D1C27E86008C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D93BF114-4779-46E8-BAB0-94FD8C232499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219320"/>
            <a:ext cx="18288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xample - Mapping an M:N relationship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Content Placeholder 2"/>
          <p:cNvSpPr/>
          <p:nvPr/>
        </p:nvSpPr>
        <p:spPr>
          <a:xfrm>
            <a:off x="304920" y="4952880"/>
            <a:ext cx="2286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 mapped ER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2038320" y="1116000"/>
            <a:ext cx="6400800" cy="379404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6"/>
          <p:cNvGrpSpPr/>
          <p:nvPr/>
        </p:nvGrpSpPr>
        <p:grpSpPr>
          <a:xfrm>
            <a:off x="2209680" y="4952880"/>
            <a:ext cx="5673960" cy="1646280"/>
            <a:chOff x="2209680" y="4952880"/>
            <a:chExt cx="5673960" cy="1646280"/>
          </a:xfrm>
        </p:grpSpPr>
        <p:pic>
          <p:nvPicPr>
            <p:cNvPr id="285" name="Picture 3" descr=""/>
            <p:cNvPicPr/>
            <p:nvPr/>
          </p:nvPicPr>
          <p:blipFill>
            <a:blip r:embed="rId2"/>
            <a:stretch/>
          </p:blipFill>
          <p:spPr>
            <a:xfrm>
              <a:off x="2209680" y="4952880"/>
              <a:ext cx="2583000" cy="11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4" descr=""/>
            <p:cNvPicPr/>
            <p:nvPr/>
          </p:nvPicPr>
          <p:blipFill>
            <a:blip r:embed="rId3"/>
            <a:stretch/>
          </p:blipFill>
          <p:spPr>
            <a:xfrm>
              <a:off x="4780080" y="4952880"/>
              <a:ext cx="1944360" cy="109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5" descr=""/>
            <p:cNvPicPr/>
            <p:nvPr/>
          </p:nvPicPr>
          <p:blipFill>
            <a:blip r:embed="rId4"/>
            <a:stretch/>
          </p:blipFill>
          <p:spPr>
            <a:xfrm>
              <a:off x="6711840" y="4952880"/>
              <a:ext cx="1171800" cy="164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247EC507-4DD3-429C-8D80-E6A2C3B7A9A0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219320"/>
            <a:ext cx="18288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xample - Mapping an M:N relationship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e3b30"/>
                </a:solidFill>
                <a:latin typeface="Franklin Gothic Book"/>
              </a:rPr>
              <a:t>Optional participation on both sides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Content Placeholder 2"/>
          <p:cNvSpPr/>
          <p:nvPr/>
        </p:nvSpPr>
        <p:spPr>
          <a:xfrm>
            <a:off x="304920" y="4952880"/>
            <a:ext cx="2286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 mapped ER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2038320" y="1116000"/>
            <a:ext cx="6400800" cy="3506760"/>
          </a:xfrm>
          <a:prstGeom prst="rect">
            <a:avLst/>
          </a:prstGeom>
          <a:ln w="0">
            <a:noFill/>
          </a:ln>
        </p:spPr>
      </p:pic>
      <p:grpSp>
        <p:nvGrpSpPr>
          <p:cNvPr id="294" name="Group 6"/>
          <p:cNvGrpSpPr/>
          <p:nvPr/>
        </p:nvGrpSpPr>
        <p:grpSpPr>
          <a:xfrm>
            <a:off x="2209680" y="4952880"/>
            <a:ext cx="5673960" cy="1646280"/>
            <a:chOff x="2209680" y="4952880"/>
            <a:chExt cx="5673960" cy="1646280"/>
          </a:xfrm>
        </p:grpSpPr>
        <p:pic>
          <p:nvPicPr>
            <p:cNvPr id="295" name="Picture 4" descr=""/>
            <p:cNvPicPr/>
            <p:nvPr/>
          </p:nvPicPr>
          <p:blipFill>
            <a:blip r:embed="rId2"/>
            <a:stretch/>
          </p:blipFill>
          <p:spPr>
            <a:xfrm>
              <a:off x="4756320" y="4952880"/>
              <a:ext cx="2011680" cy="133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3" descr=""/>
            <p:cNvPicPr/>
            <p:nvPr/>
          </p:nvPicPr>
          <p:blipFill>
            <a:blip r:embed="rId3"/>
            <a:stretch/>
          </p:blipFill>
          <p:spPr>
            <a:xfrm>
              <a:off x="2209680" y="4952880"/>
              <a:ext cx="2546640" cy="12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5" descr=""/>
            <p:cNvPicPr/>
            <p:nvPr/>
          </p:nvPicPr>
          <p:blipFill>
            <a:blip r:embed="rId4"/>
            <a:stretch/>
          </p:blipFill>
          <p:spPr>
            <a:xfrm>
              <a:off x="6711840" y="4952880"/>
              <a:ext cx="1171800" cy="164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EB9D8AD6-9560-4B0E-8D54-2D1C7A704827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219320"/>
            <a:ext cx="18288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xample - Mapping a M:N relationship with an attribute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Content Placeholder 2"/>
          <p:cNvSpPr/>
          <p:nvPr/>
        </p:nvSpPr>
        <p:spPr>
          <a:xfrm>
            <a:off x="304920" y="4952880"/>
            <a:ext cx="2286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 mapped ER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2038320" y="1116000"/>
            <a:ext cx="6400800" cy="374652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6"/>
          <p:cNvGrpSpPr/>
          <p:nvPr/>
        </p:nvGrpSpPr>
        <p:grpSpPr>
          <a:xfrm>
            <a:off x="2209680" y="4952880"/>
            <a:ext cx="6215040" cy="1660680"/>
            <a:chOff x="2209680" y="4952880"/>
            <a:chExt cx="6215040" cy="1660680"/>
          </a:xfrm>
        </p:grpSpPr>
        <p:pic>
          <p:nvPicPr>
            <p:cNvPr id="305" name="Picture 4" descr=""/>
            <p:cNvPicPr/>
            <p:nvPr/>
          </p:nvPicPr>
          <p:blipFill>
            <a:blip r:embed="rId2"/>
            <a:stretch/>
          </p:blipFill>
          <p:spPr>
            <a:xfrm>
              <a:off x="6712200" y="4967640"/>
              <a:ext cx="1712520" cy="164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3" descr=""/>
            <p:cNvPicPr/>
            <p:nvPr/>
          </p:nvPicPr>
          <p:blipFill>
            <a:blip r:embed="rId3"/>
            <a:stretch/>
          </p:blipFill>
          <p:spPr>
            <a:xfrm>
              <a:off x="2209680" y="4952880"/>
              <a:ext cx="2583360" cy="11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4" descr=""/>
            <p:cNvPicPr/>
            <p:nvPr/>
          </p:nvPicPr>
          <p:blipFill>
            <a:blip r:embed="rId4"/>
            <a:stretch/>
          </p:blipFill>
          <p:spPr>
            <a:xfrm>
              <a:off x="4780440" y="4952880"/>
              <a:ext cx="1944360" cy="1097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1:1 relationship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1:1 relationships are mapped in the same way as 1:M relationships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One of the resulting relations will have a foreign key pointing to the primary key of another resulting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One of the mapped relations is chosen to have a foreign key referring to the primary key of the other mapped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In cases when there is no particular advantage in choosing which resulting relation will include a foreign key, the choice can be arbitrary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In other cases one choice can be more efficient than the other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5CF79240-7BCA-4CA9-9DCB-4BBED1AF0EB4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Medium"/>
              </a:rPr>
              <a:t>MAPPING RELATIONSHIPS INTO RELATIONAL DATABASE CONSTRUCTS</a:t>
            </a:r>
            <a:br>
              <a:rPr sz="2900"/>
            </a:b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F4D955DE-DAA0-43EE-9E6C-C05913A352BA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219320"/>
            <a:ext cx="18288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xample - Mapping a 1:1 relationship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Content Placeholder 2"/>
          <p:cNvSpPr/>
          <p:nvPr/>
        </p:nvSpPr>
        <p:spPr>
          <a:xfrm>
            <a:off x="304920" y="4952880"/>
            <a:ext cx="2286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 mapped ER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9" descr="C:\Users\user\Desktop\F3.29.png"/>
          <p:cNvPicPr/>
          <p:nvPr/>
        </p:nvPicPr>
        <p:blipFill>
          <a:blip r:embed="rId1"/>
          <a:stretch/>
        </p:blipFill>
        <p:spPr>
          <a:xfrm>
            <a:off x="2090880" y="1066680"/>
            <a:ext cx="7078680" cy="3090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C:\Users\Giga\Dropbox\Ljeto2013\FixFigure3.30.jpg"/>
          <p:cNvPicPr/>
          <p:nvPr/>
        </p:nvPicPr>
        <p:blipFill>
          <a:blip r:embed="rId2"/>
          <a:srcRect l="0" t="0" r="76670" b="53056"/>
          <a:stretch/>
        </p:blipFill>
        <p:spPr>
          <a:xfrm>
            <a:off x="2514600" y="4191120"/>
            <a:ext cx="18669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REFERENTIAL INTEGRITY CONSTRAINT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Referential integrity constraint -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In each row of a relation  containing a foreign key, the value of the </a:t>
            </a:r>
            <a:r>
              <a:rPr b="1" i="1" lang="en-US" sz="2400" spc="-1" strike="noStrike">
                <a:solidFill>
                  <a:srgbClr val="4e3b30"/>
                </a:solidFill>
                <a:latin typeface="Franklin Gothic Book"/>
              </a:rPr>
              <a:t>foreign key EITHER matches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 one of the values in the </a:t>
            </a:r>
            <a:r>
              <a:rPr b="1" i="1" lang="en-US" sz="2400" spc="-1" strike="noStrike">
                <a:solidFill>
                  <a:srgbClr val="4e3b30"/>
                </a:solidFill>
                <a:latin typeface="Franklin Gothic Book"/>
              </a:rPr>
              <a:t>primary key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column of the referred relation </a:t>
            </a:r>
            <a:r>
              <a:rPr b="1" i="1" lang="en-US" sz="2400" spc="-1" strike="noStrike">
                <a:solidFill>
                  <a:srgbClr val="4e3b30"/>
                </a:solidFill>
                <a:latin typeface="Franklin Gothic Book"/>
              </a:rPr>
              <a:t>OR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 the value of </a:t>
            </a:r>
            <a:r>
              <a:rPr b="1" i="1" lang="en-US" sz="2400" spc="-1" strike="noStrike">
                <a:solidFill>
                  <a:srgbClr val="4e3b30"/>
                </a:solidFill>
                <a:latin typeface="Franklin Gothic Book"/>
              </a:rPr>
              <a:t>the foreign key is null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 (empty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 rule that defines values that are valid for use in foreign key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n a relational schema lines pointing from the foreign key to the corresponding primary key are referred to as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referential integrity constraint line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1020F4F9-6B68-4879-8098-09766AD5C005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Medium"/>
              </a:rPr>
              <a:t>REFERENTIAL INTEGRITY CONSTRAINT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3360" y="1155600"/>
            <a:ext cx="367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ferential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integrity constraint —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compliance and violation example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7B5CD6D0-E708-485F-9E17-CC46826D9294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3505320" y="533520"/>
            <a:ext cx="38494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INTRODUC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Relation -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able in a relational databas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 table containing rows and columns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e main construct in the relational database model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very relation is a table, not every table is a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4F3F286F-89AF-4D7C-97DF-1EB793049723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1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2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131D5577-2558-4DF8-9359-208E055CAC8E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Content Placeholder 2"/>
          <p:cNvSpPr/>
          <p:nvPr/>
        </p:nvSpPr>
        <p:spPr>
          <a:xfrm>
            <a:off x="-11160" y="0"/>
            <a:ext cx="868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e3b30"/>
                </a:solidFill>
                <a:latin typeface="Franklin Gothic Book"/>
              </a:rPr>
              <a:t>Example ER diagram : </a:t>
            </a:r>
            <a:r>
              <a:rPr b="0" lang="en-US" sz="1900" spc="-1" strike="noStrike">
                <a:solidFill>
                  <a:srgbClr val="4e3b30"/>
                </a:solidFill>
                <a:latin typeface="Franklin Gothic Book"/>
              </a:rPr>
              <a:t>ZAGI Retail Company Sales Department Datab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162000" y="457200"/>
            <a:ext cx="8820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1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2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EB8956F4-8861-48AE-93CB-7D6AA1554076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Content Placeholder 2"/>
          <p:cNvSpPr/>
          <p:nvPr/>
        </p:nvSpPr>
        <p:spPr>
          <a:xfrm>
            <a:off x="-11160" y="0"/>
            <a:ext cx="9155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e3b30"/>
                </a:solidFill>
                <a:latin typeface="Franklin Gothic Book"/>
              </a:rPr>
              <a:t>Example mapped relational schema: </a:t>
            </a:r>
            <a:r>
              <a:rPr b="0" lang="en-US" sz="1900" spc="-1" strike="noStrike">
                <a:solidFill>
                  <a:srgbClr val="4e3b30"/>
                </a:solidFill>
                <a:latin typeface="Franklin Gothic Book"/>
              </a:rPr>
              <a:t>ZAGI Retail Company Sales Department Datab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tretch/>
        </p:blipFill>
        <p:spPr>
          <a:xfrm>
            <a:off x="449280" y="698400"/>
            <a:ext cx="831060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A9569BFA-F194-48AB-A1C3-AD731270ABC7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ontent Placeholder 2"/>
          <p:cNvSpPr/>
          <p:nvPr/>
        </p:nvSpPr>
        <p:spPr>
          <a:xfrm>
            <a:off x="-11160" y="0"/>
            <a:ext cx="9155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e3b30"/>
                </a:solidFill>
                <a:latin typeface="Franklin Gothic Book"/>
              </a:rPr>
              <a:t>Example: </a:t>
            </a:r>
            <a:r>
              <a:rPr b="0" lang="en-US" sz="1900" spc="-1" strike="noStrike">
                <a:solidFill>
                  <a:srgbClr val="4e3b30"/>
                </a:solidFill>
                <a:latin typeface="Franklin Gothic Book"/>
              </a:rPr>
              <a:t>Sample data records for the ZAGI Retail Company Sales Department Datab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131760" y="914400"/>
            <a:ext cx="886932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CANDIDATE KEY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entities with candidate keys (multiple unique attributes) into relation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One of the candidate keys is chosen by database designer the as a primary key during the mapping proces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Other candidate keys are mapped as non-primary key columns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4CA937F2-0ADF-4B54-8CA2-6556627C952D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Medium"/>
              </a:rPr>
              <a:t>MAPPING ENTITIES WITH CANDIDATE KEYS (MULTIPLE UNIQUE ATTRIBUTES) INTO RELATIONS</a:t>
            </a:r>
            <a:br>
              <a:rPr sz="2600"/>
            </a:br>
            <a:endParaRPr b="0" lang="en-US" sz="2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218960"/>
            <a:ext cx="2327040" cy="16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ntity with candidate keys mapped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into a relation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AEED210B-774D-45D2-8DDE-A3C916866CE3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Content Placeholder 2"/>
          <p:cNvSpPr/>
          <p:nvPr/>
        </p:nvSpPr>
        <p:spPr>
          <a:xfrm>
            <a:off x="304920" y="4952880"/>
            <a:ext cx="2327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2631960" y="1066680"/>
            <a:ext cx="4260960" cy="37497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2"/>
          <a:stretch/>
        </p:blipFill>
        <p:spPr>
          <a:xfrm>
            <a:off x="3048120" y="4876920"/>
            <a:ext cx="2543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CANDIDATE KEY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04920" y="1218960"/>
            <a:ext cx="23270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ntity with regular and composite candidate keys mapped into a relation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E39DFB23-557C-4464-9975-4941F5F0A928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Content Placeholder 2"/>
          <p:cNvSpPr/>
          <p:nvPr/>
        </p:nvSpPr>
        <p:spPr>
          <a:xfrm>
            <a:off x="304920" y="5092560"/>
            <a:ext cx="2327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2631960" y="1089000"/>
            <a:ext cx="4457880" cy="3932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2720880" y="5092560"/>
            <a:ext cx="3429000" cy="15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MULTIVALUED ATTRIBUT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entities with multivalued attributes into relational database construct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n entity containing the multivalued attribute is mapped without the multi-valued attribute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e multi-valued attribute is mapped as a separate relation that has a column representing the multivalued attribute and a foreign key column referring to the primary key of the relation resulting from the entity itself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Both of these columns form a composite primary key for the separate relation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2AFF5218-B220-4C64-890C-5889E2E1F114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MULTIVALUED ATTRIBUT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218960"/>
            <a:ext cx="23270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ntity with multivalued attributes mapped into relation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B43B8336-2319-4DBF-B925-083772510154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Content Placeholder 2"/>
          <p:cNvSpPr/>
          <p:nvPr/>
        </p:nvSpPr>
        <p:spPr>
          <a:xfrm>
            <a:off x="304920" y="5092560"/>
            <a:ext cx="2327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819520" y="1054080"/>
            <a:ext cx="4221000" cy="3292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"/>
          <p:cNvPicPr/>
          <p:nvPr/>
        </p:nvPicPr>
        <p:blipFill>
          <a:blip r:embed="rId2"/>
          <a:stretch/>
        </p:blipFill>
        <p:spPr>
          <a:xfrm>
            <a:off x="3462480" y="4389480"/>
            <a:ext cx="3044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DERIVED ATTRIBUT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derived attribut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Derived attributes are not mapped as a part of the relational schem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ey are implemented as a part of the database front-end applic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9CE028E2-2C7F-4778-8B6E-AF981709ACCF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DERIVED ATTRIBUT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39840" y="1325160"/>
            <a:ext cx="23270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ntity with derived attributes mapped into a relation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CAE81A10-702B-4849-A217-A92E887A27CD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Content Placeholder 2"/>
          <p:cNvSpPr/>
          <p:nvPr/>
        </p:nvSpPr>
        <p:spPr>
          <a:xfrm>
            <a:off x="339840" y="4959360"/>
            <a:ext cx="20574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1800"/>
            </a:b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1800"/>
            </a:b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mapped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Content Placeholder 2"/>
          <p:cNvSpPr/>
          <p:nvPr/>
        </p:nvSpPr>
        <p:spPr>
          <a:xfrm>
            <a:off x="4114800" y="495936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The relation shown as presented to a user in a front-en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2943360" y="1249200"/>
            <a:ext cx="3457440" cy="3017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"/>
          <p:cNvPicPr/>
          <p:nvPr/>
        </p:nvPicPr>
        <p:blipFill>
          <a:blip r:embed="rId2"/>
          <a:stretch/>
        </p:blipFill>
        <p:spPr>
          <a:xfrm>
            <a:off x="2133720" y="4756320"/>
            <a:ext cx="1733400" cy="1463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"/>
          <p:cNvPicPr/>
          <p:nvPr/>
        </p:nvPicPr>
        <p:blipFill>
          <a:blip r:embed="rId3"/>
          <a:stretch/>
        </p:blipFill>
        <p:spPr>
          <a:xfrm>
            <a:off x="6172200" y="4781520"/>
            <a:ext cx="26780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INTRODUC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Relation -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able in a relational databas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n order for a table to be a relation the following conditions must hold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e3b30"/>
                </a:solidFill>
                <a:latin typeface="Franklin Gothic Book"/>
              </a:rPr>
              <a:t>Each column must have a name (within one table, each column name must be unique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e3b30"/>
                </a:solidFill>
                <a:latin typeface="Franklin Gothic Book"/>
              </a:rPr>
              <a:t>Within one table, each row must be unique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e3b30"/>
                </a:solidFill>
                <a:latin typeface="Franklin Gothic Book"/>
              </a:rPr>
              <a:t>Within each row, each value in each column must be single valued (multiple values of the content represented by the column are not allowed in any rows of the table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e3b30"/>
                </a:solidFill>
                <a:latin typeface="Franklin Gothic Book"/>
              </a:rPr>
              <a:t>All values in each column must be from the same (predefined) domain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e3b30"/>
                </a:solidFill>
                <a:latin typeface="Franklin Gothic Book"/>
              </a:rPr>
              <a:t>Order of columns is irrelevant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e3b30"/>
                </a:solidFill>
                <a:latin typeface="Franklin Gothic Book"/>
              </a:rPr>
              <a:t>Order of rows is irrelevant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5A8FB51F-F90F-48E3-8549-7F861F984E6A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1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2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8CD4FD51-1286-4B75-8FFA-86E629EFB9D0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ontent Placeholder 2"/>
          <p:cNvSpPr/>
          <p:nvPr/>
        </p:nvSpPr>
        <p:spPr>
          <a:xfrm>
            <a:off x="-11160" y="0"/>
            <a:ext cx="868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e3b30"/>
                </a:solidFill>
                <a:latin typeface="Franklin Gothic Book"/>
              </a:rPr>
              <a:t>Example : </a:t>
            </a:r>
            <a:r>
              <a:rPr b="0" lang="en-US" sz="1900" spc="-1" strike="noStrike">
                <a:solidFill>
                  <a:srgbClr val="4e3b30"/>
                </a:solidFill>
                <a:latin typeface="Franklin Gothic Book"/>
              </a:rPr>
              <a:t>Entity with various types of attributes mapped into a rel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2755800" y="392040"/>
            <a:ext cx="3686400" cy="621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oter Placeholder 1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2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36EF89A7-9014-4E29-B3F4-6555CD88F43E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Content Placeholder 2"/>
          <p:cNvSpPr/>
          <p:nvPr/>
        </p:nvSpPr>
        <p:spPr>
          <a:xfrm>
            <a:off x="-11160" y="0"/>
            <a:ext cx="868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e3b30"/>
                </a:solidFill>
                <a:latin typeface="Franklin Gothic Book"/>
              </a:rPr>
              <a:t>Example : </a:t>
            </a:r>
            <a:r>
              <a:rPr b="0" lang="en-US" sz="1900" spc="-1" strike="noStrike">
                <a:solidFill>
                  <a:srgbClr val="4e3b30"/>
                </a:solidFill>
                <a:latin typeface="Franklin Gothic Book"/>
              </a:rPr>
              <a:t>Sample data records for the mapped rel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UNARY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unary relationship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Unary relationships in ER diagrams are mapped in the same way as binary relationship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DDAECCB7-5F82-4F36-92D7-0B10EC782836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UNARY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1:M unary relationship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e relation mapped from an entity involved in a 1:M unary relationship contains a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foreign key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at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corresponds to its own primary ke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F66D3F43-2FF1-4864-9104-22F672093DF9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UNARY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218960"/>
            <a:ext cx="23270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ing a 1:M unary relationship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4005B1D1-08A0-4D63-8378-13F987873E00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ontent Placeholder 2"/>
          <p:cNvSpPr/>
          <p:nvPr/>
        </p:nvSpPr>
        <p:spPr>
          <a:xfrm>
            <a:off x="304920" y="5092560"/>
            <a:ext cx="2327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3139920" y="1066680"/>
            <a:ext cx="3587760" cy="38401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3343320" y="4975200"/>
            <a:ext cx="2617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UNARY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 M:N unary relationship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In addition to the relation representing the entity involved in a unary M:N relationship, another relation is created to </a:t>
            </a:r>
            <a:r>
              <a:rPr b="1" i="1" lang="en-US" sz="2000" spc="-1" strike="noStrike">
                <a:solidFill>
                  <a:srgbClr val="4e3b30"/>
                </a:solidFill>
                <a:latin typeface="Franklin Gothic Book"/>
              </a:rPr>
              <a:t>represent the M:N relationship itself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This new relation has </a:t>
            </a:r>
            <a:r>
              <a:rPr b="1" i="1" lang="en-US" sz="2000" spc="-1" strike="noStrike">
                <a:solidFill>
                  <a:srgbClr val="4e3b30"/>
                </a:solidFill>
                <a:latin typeface="Franklin Gothic Book"/>
              </a:rPr>
              <a:t>two foreign keys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, both of them corresponding to the primary key of the relation representing the entity involved in the unary M:N relationship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Each of the </a:t>
            </a:r>
            <a:r>
              <a:rPr b="1" i="1" lang="en-US" sz="2000" spc="-1" strike="noStrike">
                <a:solidFill>
                  <a:srgbClr val="4e3b30"/>
                </a:solidFill>
                <a:latin typeface="Franklin Gothic Book"/>
              </a:rPr>
              <a:t>foreign keys is used as a part of the composite primary key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of the new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2DF98132-8671-4F96-A9A6-5E1CD5CA4E70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UNARY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920" y="1218960"/>
            <a:ext cx="23270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ing a M:N unary relationship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A5406F58-9C6A-4949-92C2-9CD3B1F182C8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Content Placeholder 2"/>
          <p:cNvSpPr/>
          <p:nvPr/>
        </p:nvSpPr>
        <p:spPr>
          <a:xfrm>
            <a:off x="304920" y="5092560"/>
            <a:ext cx="2327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2819520" y="1066680"/>
            <a:ext cx="4697280" cy="384012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4"/>
          <p:cNvGrpSpPr/>
          <p:nvPr/>
        </p:nvGrpSpPr>
        <p:grpSpPr>
          <a:xfrm>
            <a:off x="3073320" y="5038560"/>
            <a:ext cx="3191040" cy="1555920"/>
            <a:chOff x="3073320" y="5038560"/>
            <a:chExt cx="3191040" cy="1555920"/>
          </a:xfrm>
        </p:grpSpPr>
        <p:pic>
          <p:nvPicPr>
            <p:cNvPr id="416" name="Picture 3" descr=""/>
            <p:cNvPicPr/>
            <p:nvPr/>
          </p:nvPicPr>
          <p:blipFill>
            <a:blip r:embed="rId2"/>
            <a:stretch/>
          </p:blipFill>
          <p:spPr>
            <a:xfrm>
              <a:off x="3073320" y="5038560"/>
              <a:ext cx="1592640" cy="155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4" descr=""/>
            <p:cNvPicPr/>
            <p:nvPr/>
          </p:nvPicPr>
          <p:blipFill>
            <a:blip r:embed="rId3"/>
            <a:stretch/>
          </p:blipFill>
          <p:spPr>
            <a:xfrm>
              <a:off x="4665960" y="5038560"/>
              <a:ext cx="1598400" cy="1555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UNARY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 1:1 unary relationship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Mapped in the same way as 1:M unary relationship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A2CAEFC5-3802-499B-A09F-FA0416E0DE86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UNARY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218960"/>
            <a:ext cx="23270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ing a 1:1 unary relationship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24A5826D-F515-40A4-A4D5-85328D013CD7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Content Placeholder 2"/>
          <p:cNvSpPr/>
          <p:nvPr/>
        </p:nvSpPr>
        <p:spPr>
          <a:xfrm>
            <a:off x="304920" y="5092560"/>
            <a:ext cx="2327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3276720" y="1066680"/>
            <a:ext cx="3682800" cy="38401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"/>
          <p:cNvPicPr/>
          <p:nvPr/>
        </p:nvPicPr>
        <p:blipFill>
          <a:blip r:embed="rId2"/>
          <a:stretch/>
        </p:blipFill>
        <p:spPr>
          <a:xfrm>
            <a:off x="3470400" y="4932360"/>
            <a:ext cx="284148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Medium"/>
              </a:rPr>
              <a:t>MAPPING MULTIPLE RELATIONSHIPS BETWEEN THE SAME ENTITIES</a:t>
            </a:r>
            <a:br>
              <a:rPr sz="2900"/>
            </a:b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multiple relationships between the same entiti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ach relationship is mappe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30AD304C-E94B-42DF-B610-C470E9351D4C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INTRODUC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 of relational and non-relational tabl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E809C8B0-1D3F-4AF8-B681-3F9E57072C03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543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Medium"/>
              </a:rPr>
              <a:t>MAPPING MULTIPLE RELATIONSHIPS BETWEEN THE SAME ENTITIES</a:t>
            </a:r>
            <a:br>
              <a:rPr sz="2900"/>
            </a:b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13E2D7C2-FDB6-49D4-8684-1D2627700A3A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218960"/>
            <a:ext cx="23270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ing multiple relationships between the same entitie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Content Placeholder 2"/>
          <p:cNvSpPr/>
          <p:nvPr/>
        </p:nvSpPr>
        <p:spPr>
          <a:xfrm>
            <a:off x="304920" y="5092560"/>
            <a:ext cx="2327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2743200" y="1041480"/>
            <a:ext cx="5172120" cy="3749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" descr=""/>
          <p:cNvPicPr/>
          <p:nvPr/>
        </p:nvPicPr>
        <p:blipFill>
          <a:blip r:embed="rId2"/>
          <a:stretch/>
        </p:blipFill>
        <p:spPr>
          <a:xfrm>
            <a:off x="2814480" y="4856040"/>
            <a:ext cx="5054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WEAK ENTIT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weak entitie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Weak entities are mapped in a same way as regular entities with one addition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e3b30"/>
                </a:solidFill>
                <a:latin typeface="Franklin Gothic Book"/>
              </a:rPr>
              <a:t>The resulting relation has a </a:t>
            </a:r>
            <a:r>
              <a:rPr b="1" i="1" lang="en-US" sz="1800" spc="-1" strike="noStrike">
                <a:solidFill>
                  <a:srgbClr val="4e3b30"/>
                </a:solidFill>
                <a:latin typeface="Franklin Gothic Book"/>
              </a:rPr>
              <a:t>composite primary key </a:t>
            </a:r>
            <a:r>
              <a:rPr b="0" i="1" lang="en-US" sz="1800" spc="-1" strike="noStrike">
                <a:solidFill>
                  <a:srgbClr val="4e3b30"/>
                </a:solidFill>
                <a:latin typeface="Franklin Gothic Book"/>
              </a:rPr>
              <a:t>that is </a:t>
            </a:r>
            <a:r>
              <a:rPr b="1" i="1" lang="en-US" sz="1800" spc="-1" strike="noStrike">
                <a:solidFill>
                  <a:srgbClr val="4e3b30"/>
                </a:solidFill>
                <a:latin typeface="Franklin Gothic Book"/>
              </a:rPr>
              <a:t>composed of the partial identifier and the foreign key</a:t>
            </a:r>
            <a:r>
              <a:rPr b="0" i="1" lang="en-US" sz="1800" spc="-1" strike="noStrike">
                <a:solidFill>
                  <a:srgbClr val="4e3b30"/>
                </a:solidFill>
                <a:latin typeface="Franklin Gothic Book"/>
              </a:rPr>
              <a:t> corresponding to the primary key of the owner entity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4A8BBA58-D451-44FF-B5C6-859E81D69664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WEAK ENTIT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5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45C70FDD-5A7F-43F0-B132-827D8AD78BE8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228240" y="1218960"/>
            <a:ext cx="2327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ing a weak entity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Content Placeholder 2"/>
          <p:cNvSpPr/>
          <p:nvPr/>
        </p:nvSpPr>
        <p:spPr>
          <a:xfrm>
            <a:off x="228600" y="5092560"/>
            <a:ext cx="2327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2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6675480" cy="3147840"/>
          </a:xfrm>
          <a:prstGeom prst="rect">
            <a:avLst/>
          </a:prstGeom>
          <a:ln w="0">
            <a:noFill/>
          </a:ln>
        </p:spPr>
      </p:pic>
      <p:grpSp>
        <p:nvGrpSpPr>
          <p:cNvPr id="450" name="Group 2"/>
          <p:cNvGrpSpPr/>
          <p:nvPr/>
        </p:nvGrpSpPr>
        <p:grpSpPr>
          <a:xfrm>
            <a:off x="2819520" y="4498920"/>
            <a:ext cx="3963960" cy="2102040"/>
            <a:chOff x="2819520" y="4498920"/>
            <a:chExt cx="3963960" cy="2102040"/>
          </a:xfrm>
        </p:grpSpPr>
        <p:pic>
          <p:nvPicPr>
            <p:cNvPr id="451" name="Picture 3" descr=""/>
            <p:cNvPicPr/>
            <p:nvPr/>
          </p:nvPicPr>
          <p:blipFill>
            <a:blip r:embed="rId2"/>
            <a:stretch/>
          </p:blipFill>
          <p:spPr>
            <a:xfrm>
              <a:off x="2819520" y="4498920"/>
              <a:ext cx="157824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" descr=""/>
            <p:cNvPicPr/>
            <p:nvPr/>
          </p:nvPicPr>
          <p:blipFill>
            <a:blip r:embed="rId3"/>
            <a:stretch/>
          </p:blipFill>
          <p:spPr>
            <a:xfrm>
              <a:off x="4397760" y="4498920"/>
              <a:ext cx="2385720" cy="210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WEAK ENTIT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CF9D5CC4-12CD-4715-9825-7BD8148EF9E7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04920" y="1218960"/>
            <a:ext cx="23270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ing a weak entity with two owner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Content Placeholder 2"/>
          <p:cNvSpPr/>
          <p:nvPr/>
        </p:nvSpPr>
        <p:spPr>
          <a:xfrm>
            <a:off x="304920" y="5092560"/>
            <a:ext cx="2327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2631960" y="1066680"/>
            <a:ext cx="60991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459" name="Group 2"/>
          <p:cNvGrpSpPr/>
          <p:nvPr/>
        </p:nvGrpSpPr>
        <p:grpSpPr>
          <a:xfrm>
            <a:off x="2857680" y="4799160"/>
            <a:ext cx="5155920" cy="1920600"/>
            <a:chOff x="2857680" y="4799160"/>
            <a:chExt cx="5155920" cy="1920600"/>
          </a:xfrm>
        </p:grpSpPr>
        <p:pic>
          <p:nvPicPr>
            <p:cNvPr id="460" name="Picture 3" descr=""/>
            <p:cNvPicPr/>
            <p:nvPr/>
          </p:nvPicPr>
          <p:blipFill>
            <a:blip r:embed="rId2"/>
            <a:stretch/>
          </p:blipFill>
          <p:spPr>
            <a:xfrm>
              <a:off x="5752800" y="4799160"/>
              <a:ext cx="2260800" cy="19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5" descr=""/>
            <p:cNvPicPr/>
            <p:nvPr/>
          </p:nvPicPr>
          <p:blipFill>
            <a:blip r:embed="rId3"/>
            <a:srcRect l="0" t="0" r="0" b="3935"/>
            <a:stretch/>
          </p:blipFill>
          <p:spPr>
            <a:xfrm>
              <a:off x="2857680" y="4799160"/>
              <a:ext cx="155556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6" descr=""/>
            <p:cNvPicPr/>
            <p:nvPr/>
          </p:nvPicPr>
          <p:blipFill>
            <a:blip r:embed="rId4"/>
            <a:srcRect l="0" t="3942" r="0" b="0"/>
            <a:stretch/>
          </p:blipFill>
          <p:spPr>
            <a:xfrm>
              <a:off x="4413240" y="4799160"/>
              <a:ext cx="1339560" cy="105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WEAK ENTIT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83942836-6AD3-4F58-B3B0-C4E91085FD47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228240" y="1218960"/>
            <a:ext cx="2327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ing a weak entity with no partial identifier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Content Placeholder 2"/>
          <p:cNvSpPr/>
          <p:nvPr/>
        </p:nvSpPr>
        <p:spPr>
          <a:xfrm>
            <a:off x="228600" y="5092560"/>
            <a:ext cx="2327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tretch/>
        </p:blipFill>
        <p:spPr>
          <a:xfrm>
            <a:off x="2438280" y="1160640"/>
            <a:ext cx="6599520" cy="29937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" descr=""/>
          <p:cNvPicPr/>
          <p:nvPr/>
        </p:nvPicPr>
        <p:blipFill>
          <a:blip r:embed="rId2"/>
          <a:srcRect l="6169" t="5652" r="8013" b="7116"/>
          <a:stretch/>
        </p:blipFill>
        <p:spPr>
          <a:xfrm>
            <a:off x="4368960" y="4191120"/>
            <a:ext cx="227628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1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2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F0C034DA-87F3-4EB7-A323-601472987A26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Content Placeholder 2"/>
          <p:cNvSpPr/>
          <p:nvPr/>
        </p:nvSpPr>
        <p:spPr>
          <a:xfrm>
            <a:off x="-11160" y="0"/>
            <a:ext cx="868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e3b30"/>
                </a:solidFill>
                <a:latin typeface="Franklin Gothic Book"/>
              </a:rPr>
              <a:t>Example ER diagram : </a:t>
            </a:r>
            <a:r>
              <a:rPr b="0" lang="en-US" sz="1900" spc="-1" strike="noStrike">
                <a:solidFill>
                  <a:srgbClr val="4e3b30"/>
                </a:solidFill>
                <a:latin typeface="Franklin Gothic Book"/>
              </a:rPr>
              <a:t>HAFH Realty Company Property Management Datab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679320" y="654120"/>
            <a:ext cx="82090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1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2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5D811D6D-8C62-417A-84BF-40146DC6A071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 mapped relational schema: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HAFH Realty Company Property Management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279360" y="1295280"/>
            <a:ext cx="8686800" cy="371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oter Placeholder 1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2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F4361BED-E489-4EFC-B493-F52BBECDF758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: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ample data records for the HAFH Realty Company Property Management Database (part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3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6950160" cy="496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oter Placeholder 1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2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17CAD528-6A75-4A80-BEB0-23788538CEC8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: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ample data records for the HAFH Realty Company Property Management Database (part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6950160" cy="595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RELATIONAL DATABASE CONSTRAINT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Relational database constraints -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rules that a relational database has to satisfy in order to be vali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Implicit constraints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The implicit relational database model rules that a relational database must satisfy in order to be valid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User-defined constraint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Database constraints that are added by the database designer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BA9BE285-F2E7-4583-87BC-22FCA12887A1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INTRODUC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2193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 of a relation with rows and columns appearing in a different order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BE1EF55E-B675-4913-BE9B-194AF9EF6E78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491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RELATIONAL DATABASE CONSTRAINT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04920" y="1219320"/>
            <a:ext cx="868680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Implicit constraint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ach relation in a relational schema must have a different nam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ach relation must satisfy the following conditions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Each column must have a different name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Each row must be unique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In each row, each value in each column must be single valued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Domain constraint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-  all values in each column must be from the same predefined domain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The order of columns is irrelevant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The order of rows is irrelevant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Primary key constraint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- each relation must have a primary key, which is a column (or a set of columns) whose value is unique for each row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ntity integrity constraint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Referential integrity constraint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9C43C05D-0700-4E39-A02B-EF056D72C137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RELATIONAL DATABASE CONSTRAINT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553760"/>
            <a:ext cx="86868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User-defined constraint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dded by the database designer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2C8DBAC9-283F-4438-B902-CDBA1DA8F108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RELATIONAL DATABASE CONSTRAINT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56E43E5D-B2B2-4C5F-BD6E-B78FB0C5565B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0" y="1218960"/>
            <a:ext cx="22096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pecific minimum and maximum cardinalitie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2" name="Content Placeholder 2"/>
          <p:cNvSpPr/>
          <p:nvPr/>
        </p:nvSpPr>
        <p:spPr>
          <a:xfrm>
            <a:off x="0" y="5092560"/>
            <a:ext cx="2327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7315200" cy="2989440"/>
          </a:xfrm>
          <a:prstGeom prst="rect">
            <a:avLst/>
          </a:prstGeom>
          <a:ln w="0">
            <a:noFill/>
          </a:ln>
        </p:spPr>
      </p:pic>
      <p:grpSp>
        <p:nvGrpSpPr>
          <p:cNvPr id="504" name="Group 2"/>
          <p:cNvGrpSpPr/>
          <p:nvPr/>
        </p:nvGrpSpPr>
        <p:grpSpPr>
          <a:xfrm>
            <a:off x="2895480" y="4203720"/>
            <a:ext cx="2925720" cy="2468520"/>
            <a:chOff x="2895480" y="4203720"/>
            <a:chExt cx="2925720" cy="2468520"/>
          </a:xfrm>
        </p:grpSpPr>
        <p:pic>
          <p:nvPicPr>
            <p:cNvPr id="505" name="Picture 3" descr=""/>
            <p:cNvPicPr/>
            <p:nvPr/>
          </p:nvPicPr>
          <p:blipFill>
            <a:blip r:embed="rId2"/>
            <a:stretch/>
          </p:blipFill>
          <p:spPr>
            <a:xfrm>
              <a:off x="4472280" y="4203720"/>
              <a:ext cx="1348920" cy="24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" descr=""/>
            <p:cNvPicPr/>
            <p:nvPr/>
          </p:nvPicPr>
          <p:blipFill>
            <a:blip r:embed="rId3"/>
            <a:stretch/>
          </p:blipFill>
          <p:spPr>
            <a:xfrm>
              <a:off x="2895480" y="4203720"/>
              <a:ext cx="1576800" cy="246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RELATIONAL DATABASE CONSTRAINT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04920" y="1553760"/>
            <a:ext cx="86868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Business rul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User defined constraints that specify restrictions on databases that are not a part of the standard notation for creating ER diagram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F886531A-5483-46B8-BBC8-F2E9B2F17C32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RELATIONAL DATABASE CONSTRAINT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5DA1BAB4-B37D-4772-8B25-42C390412FFC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04920" y="1218960"/>
            <a:ext cx="23270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Business rule for salary amount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5" name="Content Placeholder 2"/>
          <p:cNvSpPr/>
          <p:nvPr/>
        </p:nvSpPr>
        <p:spPr>
          <a:xfrm>
            <a:off x="304920" y="5092560"/>
            <a:ext cx="2327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" descr=""/>
          <p:cNvPicPr/>
          <p:nvPr/>
        </p:nvPicPr>
        <p:blipFill>
          <a:blip r:embed="rId1"/>
          <a:stretch/>
        </p:blipFill>
        <p:spPr>
          <a:xfrm>
            <a:off x="2631960" y="1066680"/>
            <a:ext cx="5902560" cy="35658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3" descr=""/>
          <p:cNvPicPr/>
          <p:nvPr/>
        </p:nvPicPr>
        <p:blipFill>
          <a:blip r:embed="rId2"/>
          <a:stretch/>
        </p:blipFill>
        <p:spPr>
          <a:xfrm>
            <a:off x="3962520" y="4724280"/>
            <a:ext cx="185076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RELATIONAL DATABASE CONSTRAINT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E6E91346-3185-4D42-B8C9-98B6630CD10A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920" y="1218960"/>
            <a:ext cx="23270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Business rule for the dates of enrollment and graduation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2" name="Content Placeholder 2"/>
          <p:cNvSpPr/>
          <p:nvPr/>
        </p:nvSpPr>
        <p:spPr>
          <a:xfrm>
            <a:off x="304920" y="5092560"/>
            <a:ext cx="2327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5986440" cy="38401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" descr=""/>
          <p:cNvPicPr/>
          <p:nvPr/>
        </p:nvPicPr>
        <p:blipFill>
          <a:blip r:embed="rId2"/>
          <a:stretch/>
        </p:blipFill>
        <p:spPr>
          <a:xfrm>
            <a:off x="3505320" y="4965840"/>
            <a:ext cx="3362040" cy="16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RELATIONAL DATABASE CONSTRAINT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15"/>
          <p:cNvSpPr/>
          <p:nvPr/>
        </p:nvSpPr>
        <p:spPr>
          <a:xfrm>
            <a:off x="658332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7F66F8B5-A2C4-4304-9496-BF8926E1B3B8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04920" y="1218960"/>
            <a:ext cx="23270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Business rule for gender of students in an organization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Content Placeholder 2"/>
          <p:cNvSpPr/>
          <p:nvPr/>
        </p:nvSpPr>
        <p:spPr>
          <a:xfrm>
            <a:off x="301680" y="5083200"/>
            <a:ext cx="2327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records for the mapped 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590920" y="1092240"/>
            <a:ext cx="6438960" cy="3932280"/>
          </a:xfrm>
          <a:prstGeom prst="rect">
            <a:avLst/>
          </a:prstGeom>
          <a:ln w="0">
            <a:noFill/>
          </a:ln>
        </p:spPr>
      </p:pic>
      <p:grpSp>
        <p:nvGrpSpPr>
          <p:cNvPr id="531" name="Group 2"/>
          <p:cNvGrpSpPr/>
          <p:nvPr/>
        </p:nvGrpSpPr>
        <p:grpSpPr>
          <a:xfrm>
            <a:off x="2770200" y="5092560"/>
            <a:ext cx="6353280" cy="1737000"/>
            <a:chOff x="2770200" y="5092560"/>
            <a:chExt cx="6353280" cy="1737000"/>
          </a:xfrm>
        </p:grpSpPr>
        <p:pic>
          <p:nvPicPr>
            <p:cNvPr id="532" name="Picture 3" descr=""/>
            <p:cNvPicPr/>
            <p:nvPr/>
          </p:nvPicPr>
          <p:blipFill>
            <a:blip r:embed="rId2"/>
            <a:stretch/>
          </p:blipFill>
          <p:spPr>
            <a:xfrm>
              <a:off x="7886880" y="5092560"/>
              <a:ext cx="1236600" cy="17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4" descr=""/>
            <p:cNvPicPr/>
            <p:nvPr/>
          </p:nvPicPr>
          <p:blipFill>
            <a:blip r:embed="rId3"/>
            <a:stretch/>
          </p:blipFill>
          <p:spPr>
            <a:xfrm>
              <a:off x="5339520" y="5092560"/>
              <a:ext cx="254736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5" descr=""/>
            <p:cNvPicPr/>
            <p:nvPr/>
          </p:nvPicPr>
          <p:blipFill>
            <a:blip r:embed="rId4"/>
            <a:stretch/>
          </p:blipFill>
          <p:spPr>
            <a:xfrm>
              <a:off x="2770200" y="5092560"/>
              <a:ext cx="25693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INTRODUC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Relational database -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ollection of related relations within which each relation has a unique nam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FEC35279-7C47-4251-850C-A9E8243C852D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PRIMARY KEY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Primary key -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olumn (or a set of columns) whose value is unique for each row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ach relation must have a primary ke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e name of the primary key column is underlined in order to distinguish it from the other columns in the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219088DB-8B3C-48BB-BBFD-137F9D17FD19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user</cp:lastModifiedBy>
  <dcterms:modified xsi:type="dcterms:W3CDTF">2013-08-22T15:51:19Z</dcterms:modified>
  <cp:revision>152</cp:revision>
  <dc:subject/>
  <dc:title>CHAPTER 1 - Introduction</dc:title>
</cp:coreProperties>
</file>